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04F-E36D-476A-BDC2-52C704CD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D44-CD64-49B6-9D96-BDAA1A03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490-976F-4E7B-88BF-0BC08ACA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520-41FD-4A0E-AB9D-B32D6F36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3AF8-B652-41C7-88F2-2C04AF1C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79F3-54A9-4095-A011-D7B4224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A515-C0C2-4CBB-ABE9-567DCE9B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1DD6-6E49-4AA1-8A87-760BF33A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7266-D147-4795-9EE9-512E6D0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4B6-CFD4-4195-9C61-89E5B591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1D38-FBDC-4CD0-BC0F-9F0AEE2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B3C-860D-4473-9158-252583EA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009C-F769-4796-B73C-DD74928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F81-0A22-4252-BF98-4217501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1277-1879-4D6E-B2F2-9004DFF1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BA7B-BF98-4749-BE6E-A13AEE7C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1370-7E99-4860-8A33-5B7AE7B8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4CA-CC3E-49A6-A4ED-1BF764B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35B-56D5-40DF-A443-0724CB20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702-9D37-4C7B-91DB-0FD905F1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920-3DA9-436D-B317-88C939D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7D5-54F4-42C5-887D-860B020A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B6C-4C44-47C1-92F5-C1F57D0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995-9C23-4235-ACA3-45F65168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E5A6-5DE6-49A8-8BFF-D1F3DDB42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9A70-C662-4720-A236-99DA56AC9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eg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mduus.com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mduus.com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ue Diamo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Au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duus Information Works, In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ue Diamond to Webspe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 Diamond programs should compile under Webspeed directly without chan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 Diamond routines are a subset of Webspeed (the most useful subse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bspeed to Blue Diamo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E4GL programming – HTML mapping is not suppo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“wizard” generated code will have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/SmartObjects not suppo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ce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Written by Scott Auge scott_auge@yahoo.com sauge@amduus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opyright (c) 2002 Amduus Information Works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distribution and use in source and binary forms, with or with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modification, are permitted provided that the following 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re met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1. Redistributions of source code must retain the above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notice, this list of conditions and the following disclaim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2. Redistributions in binary form must reproduce the above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notice, this list of conditions and the following disclaimer in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ocumentation and/or other materials provided with the distributi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3. All advertising materials mentioning features or use of this softw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must display the following acknowledgement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his product includes software developed by Amduus Information Wor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Inc. and its contributo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4. Neither the name of Amduus nor the names of its contribu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may be used to endorse or promote products derived from this softw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without specific prior written permissi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HIS SOFTWARE IS PROVIDED BY AMDUUS AND CONTRIBUTORS ``AS IS'' 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NY EXPRESS OR IMPLIED WARRANTIES, INCLUDING, BUT NOT LIMITED TO, T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IMPLIED WARRANTIES OF MERCHANTABILITY AND FITNESS FOR A PARTICULAR PURPO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RE DISCLAIMED.  IN NO EVENT SHALL THE AMDUUS OR CONTRIBUTORS BE LI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OR ANY DIRECT, INDIRECT, INCIDENTAL, SPECIAL, EXEMPLARY, OR CONSEQU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MAGES (INCLUDING, BUT NOT LIMITED TO, PROCUREMENT OF SUBSTITUTE GOO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OR SERVICES; LOSS OF USE, DATA, OR PROFITS; OR BUSINESS INTERRUPTIO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HOWEVER CAUSED AND ON ANY THEORY OF LIABILITY, WHETHER IN CONTRACT, STRI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LIABILITY, OR TORT (INCLUDING NEGLIGENCE OR OTHERWISE) ARISING IN ANY WA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OUT OF THE USE OF THIS SOFTWARE, EVEN IF ADVISED OF THE POSSIBILITY O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UCH DAMA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es the license mea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a BSD Lic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to redistribute the program with your application provided you credit Amduus Information Works, Inc. for part of the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 is torting Amduus, your adults and test to know if something works or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to install on as many machines as you like – spread the Progress tool set!  (Progress licensing may be differe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Source or binary redistribution rights gran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I get suppor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re out Amduus Information Works, Inc. for an installation and program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others out there who know Blue Diamond (see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peg.c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ebspeed li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re out Amduus Information Works, Inc. for email based sup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can I get sample cod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amduus.c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more open source applications like Portals, Help Desk system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te also contains E-Zines with useful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are Webspeed programming tutorials (over 100 pages of them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duus Information Works, Inc.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amduu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Au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uge@amduu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es Blue Diamond do for 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ally generate web pages using data from a Progress data source (Database/DataServ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 data from a browser for insertion into a Progress data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er initiates a HTTP message with the web ser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TTP message references an URL within the CGI framework of the web ser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eb Server starts a progress session that includes the Blue Diamond Transaction Server code and the application c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gress session generates an E4GL programmable response to the web ser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eb server issues the response back to the brow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 I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JavaScript? 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? If your browser supports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 back various Content-type responses?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XML? 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HTML? 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out to the operating system features? 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 with AppServer? 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es a programmer work thi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program with Blue Diamond Stu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 Diamond Studio provides a web interface to the 4GL Development System Progress lic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e the program with the Blue Diamond transaction ser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pported Operating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hat Lin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P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CR UN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 UNIX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Version 9 supported UNIX flav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(limited thoug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pported Web Serv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GI 1.1 compl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ache (prefer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scape/i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pported Brows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ally depends on your programm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Explor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zi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que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level of Progress do I nee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ion 9.xx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GL development system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speed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ess RDBMS or Progress DataServer for your non-Progress datab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5:47:47Z</dcterms:created>
  <dc:creator>Scott Auge</dc:creator>
  <dc:description/>
  <dc:language>en-US</dc:language>
  <cp:lastModifiedBy>Scott Auge</cp:lastModifiedBy>
  <dcterms:modified xsi:type="dcterms:W3CDTF">2002-08-28T06:22:16Z</dcterms:modified>
  <cp:revision>6</cp:revision>
  <dc:subject/>
  <dc:title>Blue Diamond</dc:title>
</cp:coreProperties>
</file>