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8061-8EBF-4BD6-8428-C97319AC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F777-E5D4-4823-A52F-C0A15F8C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B4B8-CE4A-40D1-9AE3-8EA7B77A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750D-0785-4276-B40C-314FDB4B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EC2B-0198-4709-9FF6-8A14C006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D057-0B67-4683-BE9A-B7621B9D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B401-C0C8-4975-B880-7DB498DB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88E1-F90F-4AE6-A3F5-26920E21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0273-A9C3-4D4C-91CB-7F51FB45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2F1A-3272-4FAE-91B5-6C5CA079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CFB5-70B4-4107-B56A-05E5D676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D290-9D19-4B8C-A57C-F75BF4E0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C5B3-7CAA-4A73-B49A-4E8D2622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91DB-A5AA-4A4D-9194-683560CD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96CF-B85B-4C39-9860-929E28B7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9F5B-1A7D-4435-BFA0-80172AEB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CD60-4F70-4F78-9228-99C29EC1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CAA8-DCC7-40AB-B856-0B7748D5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9216-3A25-4D22-B975-280D523C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4BD22-E617-4EF6-B722-B68794FD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253D-2ECB-44FE-A32C-98030CE6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625B-D5F2-4156-B8E4-EDE34A3D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1A30-EED7-450B-B399-5F3DD5C2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055E-51A3-4580-B34A-7002DE3B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3D3B-80B0-4785-840A-219A60F2BB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3290-FFD4-45D4-AFCB-5F399465C4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Developing Reports with Denkh HTML Reporter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tt Au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duus Information Works, I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How to add the report name into the repor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@rptname() mac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laced by the name of the report (useful for reports with similar outpu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arguments for the ma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How to place user input into the repor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@inp() mac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@inp() macro refers to the entries the user made to generate this re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es: @inp(1) Thru @inp(2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es: 11/22/02 Thru 11/23/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user entered 11/22/02 and 11/23/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ed to the @plc() macro – for each @plc() macro, there is a @inp() macro avail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How to get user inputs into the query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@plc() ma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s the prompting text as an arg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@plc(Enter Beginning Date: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in the query of the rep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used in strings, should be surrounded by “” as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ACH Customer WHERE Customer.Name BEGINS “@plc(Customer name:)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How to embed reports into a repor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@emb() mac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rguments seperated by a “,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is the name of the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are arguments to that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guments to the embedded report should be in order of the @plc() in it’s qu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guments to the embedded report should be seperated by the | charac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@emb(OrderHeader,100|1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to call out to a progra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@prg() ma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to the @emb() macro, except receives a Progress 4GL program in the first argu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@prg(AbbrWeekDay.p,11/10/02|Englis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 can only return one output st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How to refer to a ROWID of a tabl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@row() mac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ro receives the name of the table to report the ROWID 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@row(Custom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ful for embedded reports and program call-ou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to perform a calcul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@calc() mac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argument is the 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perform +, -, *, / on algebraic expressions of integer/decimal 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argument is the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include @fld() and @prg() mac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@calc(@fld(OrderLine.Qty) * @fld(OrderLine.Price),&gt;9.9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running subtot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@trksubtotal(GrandTotal, @calc(@fld(OrderLine.Qty) * @fld(OrderLine.Price),&gt;9.99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to perform subtotal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@trksubtotal() macro populates an internal named accum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@rptsubtotal() macro returns the contents of the internal named accumul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names means multiple totals can be ru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 By totaling can be done by names which are combinations of the break by val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to format a valu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@fmt() ma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Argument is the value (integer or decim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Argument is the format phr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@fmt(@fld(OrderLine.Price),$&gt;&gt;&gt;9.9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@fmt(@fld(Audit.StartTime),HH:MM 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to Drill Down into another repor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@drill() macro to create a hyperlink to another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argument is name of the report to drill i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argument are arguments to that report (as if the user had entered th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hird argument states which window to put the results in (_blank, _self, yourname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argument provides what to display on the hyper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@drill(Look Up Order By Order Number,@fld(Order.OrderNum),_blank,@fld(Order.OrderNum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udi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 Designers who are interested in directly developing a report (versus using a Report Wizard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to perform subtotal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@tblsubtotal() macro prepares a table of all the subtotal accumulators avail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acro Hierarch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ro’s used in report output are computed in this ord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date(), @time(), @rpt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fl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row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In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prg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calc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trksubtota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rptsubtotal(), @tblsubtota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fm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dril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emb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acro Combin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ro’s can be comb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ro’s usually cannot be used in a recursive ma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bedded Reports CAN be recursive, where one report refers to another report, which in turn refers to another report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Using Macro’s to feed data to an embedded repor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the @emb() macro is computed last, previous macro’s can be used within i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@emb(CustomerHeader,@fld(Customer.CustomerNumber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ls the report CustomerHeader with the data found in the field CustomerNumber of the current Customer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dditional Macro Combin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ing the row ID of the table to @prg(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prg(FindSubCust.p,@row(Customer)|TR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s the ROWID of Customer, as well a second argument of TRUE to the program FindSubCust.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ore complex macro computation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acro embeds the report SubCustomer with the output of the program FindSubCust.p which receives a ROWID and string TRUE.  It also sends SubCustomer the value in the Customer.Number as a second argu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@emb(SubCustomer, @prg(FindSubCust.p,@row(Customer)|TRUE)|@fld(Customer.Number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mbedded Repor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mbedded report is a report within a rep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bedded reports can call out to other embedded repo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a report designer to build a repository of report “pieces” to build more and more complex repo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s using common embedded reports have a common look and feel to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mbedded Repor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an embedded report cannot exceed 32KB of text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ure not to exceed 32KB on the section of a report calling out to an embedded rep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mbedded Repor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143000" y="1600200"/>
            <a:ext cx="6858000" cy="4533840"/>
            <a:chOff x="1143000" y="1600200"/>
            <a:chExt cx="6858000" cy="4533840"/>
          </a:xfrm>
        </p:grpSpPr>
        <p:pic>
          <p:nvPicPr>
            <p:cNvPr id="570" name="" descr=""/>
            <p:cNvPicPr/>
            <p:nvPr/>
          </p:nvPicPr>
          <p:blipFill>
            <a:blip r:embed="rId1"/>
            <a:stretch/>
          </p:blipFill>
          <p:spPr>
            <a:xfrm>
              <a:off x="1143000" y="1600200"/>
              <a:ext cx="685800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 txBox="1"/>
            <p:nvPr/>
          </p:nvSpPr>
          <p:spPr>
            <a:xfrm>
              <a:off x="1143000" y="1600200"/>
              <a:ext cx="685800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mbedded Repor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ious report has an embedded report for the Line Items of the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ious report has as part of it’s Record Section the data from the Order formatted according to HTML Table ru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mbedded report has nothing in it’s Page Header, Summary, and Foo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to reach the report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nkhReporter.html page is meant for the user’s to search for, list, and run repo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dminHTMLRpt.html is meant for use by the report administra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act URL is dependent on the machine name, script path, and broker name as set up by your Webspeed administra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re inform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Scott Auge at Amduus Information Works, Inc.  At sauge@amduu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James Arnold at Analyst’s Express, Inc.  At 888-889-90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About Amduus Information Works, Inc.</a:t>
            </a:r>
            <a:br>
              <a:rPr sz="36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http://www.amduus.com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ed States Based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provide Webspee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multiple open source applications to the Progress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provide application custom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t work with Manufacturing, Court/Law Enforcement, Service indus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ata Sour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RDB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acle via the Progress Dat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 SQL via the Progress Dat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ODBC via the Progress Dat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sic pieces of the repor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Page Hea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Record sections (number of rows returned by the que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Summary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Page Foo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ame for the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port’s Qu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Macr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ro’s are used as place holders for the data to appear on the 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macro’s are related to which database tables and fields are referen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s are simple date, report name, and time mac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mplicated one’s refer to specially written user programs or embedded repo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Putting data from the query into the report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@fld() ma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@fld() macro receives the table and field name of the data currently available in the current row available from the qu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 @fld(Customer.N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How to put the current date on the repor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@date() ma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ro uses the current date on the application server machine, not the client’s 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no arguments to the mac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How to add the current time to the repor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@time() ma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the current time on the application server machine, not the user’s mach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no arguments to the mac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8T19:31:33Z</dcterms:created>
  <dc:creator>Superior Court</dc:creator>
  <dc:description/>
  <dc:language>en-US</dc:language>
  <cp:lastModifiedBy>Scott Auge</cp:lastModifiedBy>
  <dcterms:modified xsi:type="dcterms:W3CDTF">2003-01-10T06:45:07Z</dcterms:modified>
  <cp:revision>12</cp:revision>
  <dc:subject/>
  <dc:title>Slide 1</dc:title>
</cp:coreProperties>
</file>