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0A83-2DFB-461E-933E-3819C795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530B-BC4D-4C52-8E1C-BDA601C1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5994-F94F-424C-8EF1-EEF1516D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F758-5320-46D3-9349-8F5C34A2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168D-6C47-4553-91AE-5DE21F36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C591-C3C1-470C-A7E5-0C4AE2E0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209A-28D1-4B1E-83FC-E4CD2F5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094F-2531-406F-8038-774C5958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7516-20C2-401C-9E88-5CDC3A34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BDD4-7DB1-497B-B8FE-0FA89B83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9AFF-903D-4AE6-A55F-A6E2ED03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12D2-9886-4E7E-8E6F-B23C790B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999C-657E-4E34-BE53-C47130BC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811F-D1BA-497D-9FF0-6800C430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EA6A-3858-4622-88FC-BC233307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04F9-2AA4-4360-AAF4-458F4A4D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1927-C246-4A47-9994-40E6D56B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C790-F2A7-4BC0-8544-ACC29A86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1E94-1828-4BA0-82B6-E098272F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944A-0EF6-4CE0-84CB-A1F143A2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3695-735D-44D6-837C-8705E425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2F7F-8FE5-411A-AE07-9E5831E8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099D-3C63-46B8-9E05-B36488CD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CF92-EC3B-4999-B155-7D603FEA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C78B-9A54-4AA8-B855-3C7A5FCECA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788B-72BA-43B8-8B00-49693C40F2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Why Use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e Denkh HTML Reporter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A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duus Information Works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-labels for each field can be specified for each report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 totals, sub-totals &amp; totals (without turning into a pretz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it is on the web, Preview or print to screen with optional paper printing later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Source so you can modify look and feel, as well research “how it does 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HTML Editors to develop your report sections (then cut and paste the code in and out of the edi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s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queries defined by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 reports using HTML/CSS2 for a more polished l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include embedded reports within reports (a report reposit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embed data fields from the query into th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embed page breaks into th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ask the report user questions for report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s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restrict which tables the report generator can 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look into Progress, Oracle, and ODBC bas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based so it can be reached easily by people (include in your portal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out to Progress 4GL programs from within a report (good for integ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ession variables within a report (good for integ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date and time within a repor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s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user’s input in the output of th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lity to access rowid of records in report (good for integ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DF/MS Wor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examples/Source Cod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 report listing system with search by name function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s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“green bar”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letter bas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ophisticated layouts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your logo/images in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different types of fonts in your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e into exis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tables available in existing Progress and non-Progress applic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ly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RD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cle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SQL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ODBC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ase of supp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a web browser as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ompany users can view the reports with included software (Internet Explorer, Netscape, Mozil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ogram installations to be needed on the user’s compu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into the company intranet/extranet por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kills needed to create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derstanding of 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derstanding of the tables within th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derstanding of the Denkh HTML Reporter macro’s (See accompanying presen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derstanding of preparing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is available from Amduus Information Works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frastructure Need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atabase to use for repor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eed Transaction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using a non-Progress database, then the appropriate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b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b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ecision M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See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pen Sour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need to better understand the system, one can read the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integration with oth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s sometimes share code with Amduus allowing additional features to become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Scott Auge at Amduus Information Works, Inc.  At sauge@amduu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James Arnold at Analyst’s Express, Inc.  At 888-889-90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bout Amduus Information Works, Inc.</a:t>
            </a:r>
            <a:br>
              <a:rPr sz="36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http://www.amduus.com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 Based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ovide Webspee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multiple open source applications to the Progress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ovide application custo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work with Manufacturing, Court/Law Enforcement, Service indus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ort wri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reports without the need of coding, compiling, and releasing program modules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still powerful enough to integrate with programmer’s wor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ort generato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can search for a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port requests input parameters from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port is presented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ort manag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a repository of multiple re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, Modify, and Delete re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un Through….</a:t>
            </a:r>
            <a:br>
              <a:rPr sz="40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Choose a report to run…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447920" y="1600200"/>
            <a:ext cx="6019560" cy="4533840"/>
            <a:chOff x="1447920" y="1600200"/>
            <a:chExt cx="6019560" cy="4533840"/>
          </a:xfrm>
        </p:grpSpPr>
        <p:pic>
          <p:nvPicPr>
            <p:cNvPr id="526" name="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01956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 txBox="1"/>
            <p:nvPr/>
          </p:nvSpPr>
          <p:spPr>
            <a:xfrm>
              <a:off x="1447920" y="1600200"/>
              <a:ext cx="601956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un Through…</a:t>
            </a:r>
            <a:br>
              <a:rPr sz="40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Run the report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23880" y="1676520"/>
            <a:ext cx="5791320" cy="4533840"/>
            <a:chOff x="1523880" y="1676520"/>
            <a:chExt cx="5791320" cy="4533840"/>
          </a:xfrm>
        </p:grpSpPr>
        <p:pic>
          <p:nvPicPr>
            <p:cNvPr id="530" name="" descr=""/>
            <p:cNvPicPr/>
            <p:nvPr/>
          </p:nvPicPr>
          <p:blipFill>
            <a:blip r:embed="rId1"/>
            <a:stretch/>
          </p:blipFill>
          <p:spPr>
            <a:xfrm>
              <a:off x="1523880" y="1676520"/>
              <a:ext cx="579132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 txBox="1"/>
            <p:nvPr/>
          </p:nvSpPr>
          <p:spPr>
            <a:xfrm>
              <a:off x="1523880" y="1676520"/>
              <a:ext cx="579132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un Through…</a:t>
            </a:r>
            <a:br>
              <a:rPr sz="40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The report!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52480" y="1676520"/>
            <a:ext cx="5410440" cy="4533840"/>
            <a:chOff x="1752480" y="1676520"/>
            <a:chExt cx="5410440" cy="453384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1752480" y="1676520"/>
              <a:ext cx="541044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 txBox="1"/>
            <p:nvPr/>
          </p:nvSpPr>
          <p:spPr>
            <a:xfrm>
              <a:off x="1752480" y="1676520"/>
              <a:ext cx="541044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 Li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ize your character or GUI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it to provide inquiry and lookups for your web based application!!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reports without Provision, Crystal Reports, or Report Builder! No compiling need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formatting of data and data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otall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ll down into other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Column Hea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22:01:50Z</dcterms:created>
  <dc:creator>Superior Court</dc:creator>
  <dc:description/>
  <dc:language>en-US</dc:language>
  <cp:lastModifiedBy>Scott Auge</cp:lastModifiedBy>
  <dcterms:modified xsi:type="dcterms:W3CDTF">2003-01-10T07:00:45Z</dcterms:modified>
  <cp:revision>7</cp:revision>
  <dc:subject/>
  <dc:title>Why Use The Denkh HTML Reporter</dc:title>
</cp:coreProperties>
</file>