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EFD8-01AE-4277-8364-132658F5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6399-2532-4F34-A216-77B01B4B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863E-E41F-40BA-BCE5-002F9E7D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14B1-33D4-4656-8522-94CFC69A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F29E-36AB-4712-A684-4D9B1B66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B52E-5718-4252-81D6-77772859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4C78-CA91-4FD4-AD93-4E7E0B5D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BFB6-3453-459F-AA32-50BCC26B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1AD8-1C02-468B-9AD9-F568D369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AA1C-0592-43DD-9CD4-6B45662E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2BDB-D700-49B4-AEF0-EE4AEC42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F2F3-9FC2-4CE0-BEDB-8D8B5E7B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1FA8-3A28-44F5-BCF0-645E0FEB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7428-11AC-4189-BB34-9E49F964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0407-9C5D-4C73-A742-ED4B4BB3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64AA-7AD5-49B1-8292-2195EE1A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CA16-C03E-404D-87EF-2C3E66C2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0CFE-DD5B-4F48-B4A9-5009BE89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F848-6679-4903-83D5-F77F8EE9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372A-582B-4A3E-9B54-39F4F25B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1F8E-CA73-45B3-96E2-B1DB810F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30DB-7958-4525-A8F4-F13A5B38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1237-0D73-4C85-A90B-65DA0866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8C08-AB0E-4DE7-8C1F-10E15D14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148D-C1D1-4235-96E8-F1CC08391AA1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A802-C07C-42D0-9A8E-87AF4EB05EF1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ebopedia.com/TERM/o/program.html" TargetMode="External"/><Relationship Id="rId2" Type="http://schemas.openxmlformats.org/officeDocument/2006/relationships/hyperlink" Target="http://www.webopedia.com/TERM/o/programmer.html" TargetMode="External"/><Relationship Id="rId3" Type="http://schemas.openxmlformats.org/officeDocument/2006/relationships/hyperlink" Target="http://www.webopedia.com/TERM/o/data_type.html" TargetMode="External"/><Relationship Id="rId4" Type="http://schemas.openxmlformats.org/officeDocument/2006/relationships/hyperlink" Target="http://www.webopedia.com/TERM/o/data_structure.html" TargetMode="External"/><Relationship Id="rId5" Type="http://schemas.openxmlformats.org/officeDocument/2006/relationships/hyperlink" Target="http://www.webopedia.com/TERM/o/function.html" TargetMode="External"/><Relationship Id="rId6" Type="http://schemas.openxmlformats.org/officeDocument/2006/relationships/hyperlink" Target="http://www.webopedia.com/TERM/o/object.html" TargetMode="External"/><Relationship Id="rId7" Type="http://schemas.openxmlformats.org/officeDocument/2006/relationships/hyperlink" Target="http://www.webopedia.com/TERM/o/data.html" TargetMode="External"/><Relationship Id="rId8" Type="http://schemas.openxmlformats.org/officeDocument/2006/relationships/hyperlink" Target="http://www.webopedia.com/TERM/o/module.html" TargetMode="External"/><Relationship Id="rId9" Type="http://schemas.openxmlformats.org/officeDocument/2006/relationships/hyperlink" Target="http://www.webopedia.com/TERM/o/feature.html" TargetMode="External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Object Oriented Programming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with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Progress 4G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ott Au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Door Obj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cap of the methods availab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Error(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ock(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lock(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pen(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lose(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Door Obj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if we want to make two door objects?  Do we need to make two sets of variable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NO!  An object has all it’s variables pre-defined and scoped only to that object.  All we need to do is make another “instance” of the objec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lementing an obj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 object in the 4GL needs to be defined in a procedure fil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object’s attributes would be local variables to the fil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object’s methods would be internal procedures to the fil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make an “instance” of the object, one would run the file “persistantly.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lementing an obj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bject oriented files should begin with obj_ so that programmers know off the bat the file is object orient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bj_log.p is an object oriented log file management system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lementing an obj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logging object is stored in a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bj_log.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log management object has some attributes associated to i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file name of the file it manag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error messaging subsystem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variable to determine if the file ope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lementing an obj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logging object has some methods available to i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tError(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tLogFileName(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it()             </a:t>
            </a:r>
            <a:r>
              <a:rPr b="0" lang="en-US" sz="2400" spc="-1" strike="noStrike">
                <a:solidFill>
                  <a:srgbClr val="00cc66"/>
                </a:solidFill>
                <a:latin typeface="Arial"/>
              </a:rPr>
              <a:t>[A “constructor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itAppend() </a:t>
            </a:r>
            <a:r>
              <a:rPr b="0" lang="en-US" sz="2400" spc="-1" strike="noStrike">
                <a:solidFill>
                  <a:srgbClr val="00cc66"/>
                </a:solidFill>
                <a:latin typeface="Arial"/>
              </a:rPr>
              <a:t>[A “constructor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troy()      </a:t>
            </a:r>
            <a:r>
              <a:rPr b="0" lang="en-US" sz="2400" spc="-1" strike="noStrike">
                <a:solidFill>
                  <a:srgbClr val="00cc66"/>
                </a:solidFill>
                <a:latin typeface="Arial"/>
              </a:rPr>
              <a:t>[A “destructor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oWrtLogFile(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oEraseLogFile(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oCopyLogFile(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oCloseFile(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lementing an obj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log management object has some “private” methods available to it.  Private methods are methods that should only be called by the object it’s self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se should be pre-pended with prv so programmers know they are private.  Progress does not enforce privac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vAssignError(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lps to ease management of the errors from other procedur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lementing an obj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ocal variables to the object (attributes), will need their own Set*() and Get*() methods because the 4GL does not allow external programs to access them directl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reating an instance of the objec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w that an object is defined, how do we use i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eate an instance of an obj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bjects need to be referred through Progress 4GL handles.  The code below says we are expecting to work with two object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Courier New"/>
              </a:rPr>
              <a:t>/* Object instance handles */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Courier New"/>
              </a:rPr>
              <a:t>DEFINE VARIABLE hobjlog_SystemLogFile AS HANDLE NO-UNDO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Courier New"/>
              </a:rPr>
              <a:t>DEFINE VARIABLE hobjlog_ProgrammerLogFile AS HANDLE NO-UNDO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finition of OO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 type of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programming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 in which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programmers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 define not only the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3"/>
              </a:rPr>
              <a:t>data type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 of a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4"/>
              </a:rPr>
              <a:t>data structure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, but also the types of operations (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5"/>
              </a:rPr>
              <a:t>functions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) that can be applied to the data structure. In this way, the data structure becomes an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6"/>
              </a:rPr>
              <a:t>object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that includes both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7"/>
              </a:rPr>
              <a:t>data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 and functions. In addition, programmers can create relationships between one object and another. For example, objects can </a:t>
            </a: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inherit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characteristics from other objects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ne of the principal advantages of object-oriented programming techniques over procedural programming techniques is that they enable programmers to create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8"/>
              </a:rPr>
              <a:t>modules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 that do not need to be changed when a new type of object is added. A programmer can simply create a new object that inherits many of its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9"/>
              </a:rPr>
              <a:t>features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 from existing objects. This makes object-oriented programs easier to modify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eate an instance of an object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ce we have handles to manage our instances, we go ahead and make instan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Courier New"/>
              </a:rPr>
              <a:t>/* Create two instances of the Logging object */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Courier New"/>
              </a:rPr>
              <a:t>RUN obj_log.p PERSISTENT SET hobjlog_SystemLogFile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Courier New"/>
              </a:rPr>
              <a:t>RUN obj_log.p PERSISTENT SET hobjlog_ProgrammerLogFile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eate an instance of an obj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4GL does not let us call the constructor automatically like some languages do (C++ for example.)  We need to call those separately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Courier New"/>
              </a:rPr>
              <a:t>/* Call their constructors */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Courier New"/>
              </a:rPr>
              <a:t>RUN InitAppend IN hobjlog_SystemLogFile ("/tmp/systemlogfile.txt")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Courier New"/>
              </a:rPr>
              <a:t>RUN InitAppend IN hobjlog_ProgrammerLogFile ("/tmp/programmerlogfile.txt")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eate an instance of an obj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ce an object has been allocated and it’s constructor has been called, one can begin working it’s method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/* Call into their "activity" methods */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RUN DoWrtLogFile IN hobjlog_SystemLogFile ("This should be in system log file.")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RUN DoWrtLogFile IN hobjlog_ProgrammerLogFile ("This should be in programmer log file.")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eating an object inst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e of the good things about objects is that they can know about themselves.  Here is a method that returns the log file the object is writing t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/* Display the log files these objects are using */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RUN GetLogFileName IN hobjlog_SystemLogFile (OUTPUT c1)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RUN GetLogFileName IN hobjlog_ProgrammerLogFile (OUTPUT c2)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disp c1 c2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eating an object inst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n you are finished with an object, you should call it’s “destructor.”  Note you need to delete it’s persistence handl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/* Call their destructors */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RUN Destroy IN hobjlog_SystemLogFil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DELETE WIDGET hobjlog_SystemLogFil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RUN Destroy IN hobjlog_ProgrammerLogFil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DELETE WIDGET hobjlog_ProgrammerLogFil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assing Objects arou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e can pass objects to other routines by passing their handles to the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ndles can be converted into strings with the STRING() function, and returned to a handle type with the WIDGET-HANDLE() func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me things to think abou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bjectfying LT2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pplication Objec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tApplicant(hperson_main, “Main”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Person Objec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tName(FirstName, LastNam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Property Objec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tFees(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ample of an obj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ts examine what would be taken to make an object representing a doo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Door Obj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know that a door has certain stat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pe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los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ock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lock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Door Obj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se states would be stored in an attribute of the object, a variable of the object that is part of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sLocked = {Yes, No}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sOpen = {Yes, No}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Door Obj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can do certain things with the door, certain action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Door Obj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se actions are called methods.  These are the things one can do with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ock(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Lock(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pen(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lose(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Door Obj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metimes what we want to happen to the door needs to send some feedback.  For example, trying to open() an already opened doo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ErrorMsg = “Human friendly description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ErrorCode = {Z}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Door Obj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cap of variables associated with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ErrorCod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ErrorMs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sLock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sOpe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14:16:09Z</dcterms:created>
  <dc:creator>sauge</dc:creator>
  <dc:description/>
  <dc:language>en-US</dc:language>
  <cp:lastModifiedBy>sauge</cp:lastModifiedBy>
  <dcterms:modified xsi:type="dcterms:W3CDTF">2004-04-26T15:23:51Z</dcterms:modified>
  <cp:revision>2</cp:revision>
  <dc:subject/>
  <dc:title>Object Oriented Programming with  Progress 4GL</dc:title>
</cp:coreProperties>
</file>