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27E-EA39-46E3-B1C4-98CD6E88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DA6-A37F-48D8-A9AF-6256A57A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7C9-97B9-465C-887A-DD9CD04E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847-441E-4EB4-8D91-F5FF1234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B485-4CDB-4E49-8CB7-F523F102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0379-CDF5-43CA-B20D-A2AD46CD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B7A8-C3BA-46B9-A0BD-9552ADFC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0875-450B-4075-8DCD-000761CC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9E48-F181-4625-8ACB-5C94BDD2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934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E5E1-6E89-4CDE-BDCA-3B91015F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5A75-46BE-439A-B974-BD296C70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BC8-B85A-48F2-98CD-8E96122F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7C90-4115-41FA-8F40-CD8DAAC8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D1B7-7747-494C-AAF5-4AD8058D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10CD-E9FA-481E-B49F-2141229B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94BB-17A5-47AA-A7B2-2CC752EA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0AD8-8BB5-41F8-8854-25E38F9F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B7F-645D-4BC2-A28B-739E5977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659-E6DE-4BD8-AFD5-996512E7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3D2-030C-4CF7-9D4A-0FAB917A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934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74C-8344-4D89-B4B8-3AA09DD4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E8F-33BA-4F28-833B-1E252548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358-DA91-434F-9840-4C58EE1A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BC7-A169-4165-A58F-50963DE4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03FB-DD4A-48D5-A698-78F18CDDF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82EF-D1AB-497A-82FF-02106613A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rvice Express: A hosted solu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duus Information Works, In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mplemen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your domain to include the Amduus server so the application appears to be in your dom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duus can also host your domain if you already do not have 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duus can also host your web site if you already do not have 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mplemen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 a link from an existing web site to the Service Express appl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d of presen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What is Service Express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Express is a dual web site application to manage work orders, tickets, and other customer iss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e “Introduction to Service Express for the Company.pp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e “Introduction to Service Express for the Customer.pp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 hosted solu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ce the application has web interfaces, the application can be hosted on Amduus’ servers and net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 hosted solu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problem solvers access a site via a web browser on their systems via th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customers access a site via a web browser on their systems via th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enefits of a hosted solu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ake care of obtaining server hard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ake care of database administration on the ser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ake care of system administration on the ser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ake care of network connectivity to the server from the internet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pplication pric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cing can be based upon number of tickets created each mon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cing can be based upon number of internal users accessing the application per month up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ickets per mon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cing can be based upon a monthly charge up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ickets per mon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pplication pric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al pricing for solo server ho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ustomer safety ne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pplication can be purchased from us for use on your serv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pplication is open source – all you need are programmers to figure out the intern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nth a back up of the database is sent to you.  Your data is you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mplemen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duus or an Amduus Partner will assist you to perform business analysis for defin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cket types, Problem Typ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internal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external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9:29:21Z</dcterms:created>
  <dc:creator>Scott Auge</dc:creator>
  <dc:description/>
  <dc:language>en-US</dc:language>
  <cp:lastModifiedBy>Scott Auge</cp:lastModifiedBy>
  <dcterms:modified xsi:type="dcterms:W3CDTF">2003-03-09T19:59:00Z</dcterms:modified>
  <cp:revision>1</cp:revision>
  <dc:subject/>
  <dc:title>Service Express: A hosted solution</dc:title>
</cp:coreProperties>
</file>