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E1B-B717-4135-BDF0-CE09728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00D-53EF-4AF1-9515-84F9920E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A0-1A27-4928-9CF2-31DA72C1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863-C07E-4816-AB8D-24B9694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B74-AC57-43F0-A73D-14C381BC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321E-DCB3-4ED3-8834-54DD94F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B92-29FB-45ED-8F96-51F1A4D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66E-9594-4E3D-941E-EF1ED4A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6BD2-9792-4920-9ECD-B46E16BA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CD7-F872-464A-A98D-CAD2C340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86FE-3FE6-4B3A-8D81-BC7D1A9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6DA-714F-42C6-B0EB-320FEE7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E203-73C3-4D32-B5F7-F1430CB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547-519C-42CA-81E0-B3E5321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916F-AF2F-47D6-A1A4-1EDCB9C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0DA5-5AC4-4DA5-9B77-CE31FD6F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7F2-55E3-4E66-965C-90A3CA8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083-4F66-4B44-8425-9D25467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2BC-828D-4E95-B0B2-1087BB5A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722-DAB6-4CAB-88BC-74392A3D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FF9-6E10-4884-AEC7-71BFC22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DF4-0DCC-422C-ABE4-359A3C2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C0D-6C15-4260-BA53-FC8A0D3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50E-B3A0-45D6-A7F3-3C56299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539D-277C-40C0-87B0-28EAF15E3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0E28-1D06-4368-B111-D1D1C366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troduction to Service Express for the custom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 see a list of tickets belonging to their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not see the tickets of another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495680" y="2050920"/>
            <a:ext cx="42674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enefits for you and your custom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 will have the ability to use a web sit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your organization of an iss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he issue easily with additional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your organization to inform the custom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ase of us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y browser (IE, Netscape, Mozilla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okies ar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and clear to use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ly create an acc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ustomer number and authorization number nee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existing account with an ID and pass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inform the user outside of the protected area with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4572000" y="2200320"/>
            <a:ext cx="4114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on login, you can deliver a message to the custom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instructions for creating a ticket, listing existing tickets, updating existing tickets, updating their profile, and logging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the customer determine the type of interaction to classify the ticket u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lated to equipment, invoices, credit, sal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et types are definable by the site’s ow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clarify the interaction with a problem ty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types are definable by the site own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can add free form text information the tick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ustomer gives the ticket a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Using the customer web si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cket is created.  The customer can add additional comments to the ticket via the work lo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stomer can also change the status of the ti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osting company can define the statuses avail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572000" y="2125800"/>
            <a:ext cx="41911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4:55:48Z</dcterms:created>
  <dc:creator>Scott Auge</dc:creator>
  <dc:description/>
  <dc:language>en-US</dc:language>
  <cp:lastModifiedBy>Scott Auge</cp:lastModifiedBy>
  <dcterms:modified xsi:type="dcterms:W3CDTF">2003-03-09T06:45:40Z</dcterms:modified>
  <cp:revision>3</cp:revision>
  <dc:subject/>
  <dc:title>Introduction to Service Express for the customer</dc:title>
</cp:coreProperties>
</file>