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437-1127-4FDE-A8BA-409DA57B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B23E-0D21-47F2-A2A5-825C9B6F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13C-A063-4B52-88A2-66F2FF3E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17348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51816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82880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17348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51816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F7F0-E903-4BDC-87A4-6BA00463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74E7-FDF7-429D-A282-9496809A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876D-08A8-4975-ADF0-9D57D128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258A-C1AB-4CB5-A959-B0EFE7DD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0545-8759-450E-9AAD-64856428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03ED-54A3-4292-B90D-2CAD8FA3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934320" cy="109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6800-EDB2-4879-8CB0-1DAAF213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76C5-66EA-4226-A3B7-19834F64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A627-74D1-4505-ABF2-7EA66164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BC9B-00E9-45A9-AF04-BACCCF32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9DAA-A28D-45F5-8698-6B936159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8FDB-D47F-42B0-8786-6A8BDE99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5619-22E8-4B34-99F1-5DF790D8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7348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1816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82880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17348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1816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7B2B-47CF-459C-81A3-950473D6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8751-DF46-47AD-BC5D-C218040D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540-F0FA-40D0-84E4-B2D0A0C4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45B-67AE-4A19-A499-46F8E906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934320" cy="109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997-8EA7-484D-9CA2-753D3B9B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B520-982C-4710-BC3C-E5DA384E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8F6-1130-4E45-A33B-4C3B3DE2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3AD-C836-4204-981B-B770B945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C040-A6D0-4C33-AD60-0ACFA0313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C71A-8923-4D46-86A0-55744B449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rvice Express: From the company’s prospectiv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duus Information Works, In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Managing Ticket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icket is created and assigned a reference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efault status and priority (based on problem type) are assigned to the tick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r can update the work log on the tick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4495680" y="2108160"/>
            <a:ext cx="426744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Managing Ticket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can access ticket information from the ticket listing scre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icket can be updated by clicking the ticket refer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4495680" y="2108160"/>
            <a:ext cx="426744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set-u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cket Types are defin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cket Types can be active or inac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Ticket Types appear on the ticket creation scree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4495680" y="2108160"/>
            <a:ext cx="426744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set-u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Types are associated to a Ticket Ty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Types are defin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Types can be active or inac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4495680" y="2108160"/>
            <a:ext cx="426744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set-u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Types have a set of definable statuses associated to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uses should be used to relate work flow of the ticket in the organiz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uses can be active or inacti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4495680" y="2182680"/>
            <a:ext cx="4191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set-u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es can be set to be chosen by the customer (such as Cancel) or not chosen by the custom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es can cause the ticket to disappear from the ticket listing scre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 ticket is created, it is set to a definable default stat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set-u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Types have associated Priorit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ies are definable by the comp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ies can be active or not acti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wly created ticket is defaulted to a definable prio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4419720" y="2133720"/>
            <a:ext cx="426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nd of presen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rchitecture of Service Expres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Express is composed of two web si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eb site is used by the customers of the company implementing Service Express (See Introduction to Service Express for the Customer.pp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cond site is used by the company to manage the tickets.  This presentation focuses on the company’s internal s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Managing Ticket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is controlled by Login and password challen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4495680" y="2108160"/>
            <a:ext cx="426744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Managing Ticket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deliver a message to newly logged in us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use interface to manage ticke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4724280" y="2225520"/>
            <a:ext cx="411480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Managing Ticket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ion of a ticket starts by identifying a customer numb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take tickets over the ph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 up available to search for customer number by customer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4419720" y="2108160"/>
            <a:ext cx="426708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Managing Ticket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ticket for work has a site and contact associated with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et of sites for the customer will be display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ser has the ability to add a site to the custo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et of contacts will be made available to choose fro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tact can be added by the us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6"/>
          <a:stretch/>
        </p:blipFill>
        <p:spPr>
          <a:xfrm>
            <a:off x="4419720" y="2108160"/>
            <a:ext cx="426708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Managing Ticket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t of definable Ticket Types will be display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 ticket type to help categorize the tick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egories could be equipment models, types of interaction with the compan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4572000" y="2182680"/>
            <a:ext cx="4191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Managing Tickets.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t of definable problem types will be made avail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types are related to the ticket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types can be diver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oicing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pment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4495680" y="2108160"/>
            <a:ext cx="426744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ghlights of Managing Ticket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free form text can be added to the tick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ser can name the ticket as it appears on the ticket listing p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4419720" y="2108160"/>
            <a:ext cx="426708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06:47:01Z</dcterms:created>
  <dc:creator>Scott Auge</dc:creator>
  <dc:description/>
  <dc:language>en-US</dc:language>
  <cp:lastModifiedBy>Scott Auge</cp:lastModifiedBy>
  <dcterms:modified xsi:type="dcterms:W3CDTF">2003-03-09T07:25:22Z</dcterms:modified>
  <cp:revision>3</cp:revision>
  <dc:subject/>
  <dc:title>Service Express: From the company’s prospective</dc:title>
</cp:coreProperties>
</file>