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8F90-0829-4BD0-8E35-6D01F910B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fying LT2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Objec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pplicant(hperson_main, “M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Objec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Name(FirstName, LastNa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ty Objec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Fe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C691E-C3A9-4367-BB21-FE983C89E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646B-5494-45EB-ABF8-E739DBC8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8155B-2649-40DC-8AEF-F99A76200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20346-7F6D-4D49-9836-1C88C3A81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CAB1B-39AF-47F9-8DEB-8C2EE56F1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D0358-2108-4C5E-8ED6-44CB32A40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BA423-5057-4DBE-9266-729912D5C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2BA8A-58E5-4235-A5A4-1F1DA2B0E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9C3B1-9FAE-416A-9B1A-14AE32505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0A433-7F7B-4291-B7D7-63192B0F0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C46E2-F663-4DDB-A186-E2AED1B24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42FB6-A552-426B-BDD4-853657E8F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8378A-BB83-49C6-92F7-B0D5EB02F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70786-222D-4EA9-9488-5D16370A7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25DDD-C981-490A-8ABD-35980B66B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42DA2-3F11-40EA-AD39-A207282C5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6C135-81D0-44A0-85AF-D0EF355B8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5A372-1797-442F-8236-984FB9EB0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720A4-34E6-407D-B588-C8F668BD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19F03-E8BA-4F93-A5DE-4BF6EAFC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77CF-AF0F-404D-B681-7D0D569D0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FD3C-5AFD-47EA-AD5D-4EFA818B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A8EF-0BC7-4510-B36A-436E3BFA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7120-4433-4B23-92D6-59D0A206B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DBBE-A496-4FF6-A99F-8AD9DF8999DF}"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9B52-4E74-4ADB-9FF7-FEFD8BF81DB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ebopedia.com/TERM/o/program.html" TargetMode="External"/><Relationship Id="rId2" Type="http://schemas.openxmlformats.org/officeDocument/2006/relationships/hyperlink" Target="http://www.webopedia.com/TERM/o/programmer.html" TargetMode="External"/><Relationship Id="rId3" Type="http://schemas.openxmlformats.org/officeDocument/2006/relationships/hyperlink" Target="http://www.webopedia.com/TERM/o/data_type.html" TargetMode="External"/><Relationship Id="rId4" Type="http://schemas.openxmlformats.org/officeDocument/2006/relationships/hyperlink" Target="http://www.webopedia.com/TERM/o/data_structure.html" TargetMode="External"/><Relationship Id="rId5" Type="http://schemas.openxmlformats.org/officeDocument/2006/relationships/hyperlink" Target="http://www.webopedia.com/TERM/o/function.html" TargetMode="External"/><Relationship Id="rId6" Type="http://schemas.openxmlformats.org/officeDocument/2006/relationships/hyperlink" Target="http://www.webopedia.com/TERM/o/object.html" TargetMode="External"/><Relationship Id="rId7" Type="http://schemas.openxmlformats.org/officeDocument/2006/relationships/hyperlink" Target="http://www.webopedia.com/TERM/o/data.html" TargetMode="External"/><Relationship Id="rId8" Type="http://schemas.openxmlformats.org/officeDocument/2006/relationships/hyperlink" Target="http://www.webopedia.com/TERM/o/module.html" TargetMode="External"/><Relationship Id="rId9" Type="http://schemas.openxmlformats.org/officeDocument/2006/relationships/hyperlink" Target="http://www.webopedia.com/TERM/o/feature.html" TargetMode="External"/><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hyperlink" Target="http://www.progress.com/progress/products/documentation/docs/dvhbk/dvhbk.pdf" TargetMode="External"/><Relationship Id="rId2" Type="http://schemas.openxmlformats.org/officeDocument/2006/relationships/hyperlink" Target="http://www.progress.com/progress/products/documentation/docs/dvhbk/dvhbk.pdf" TargetMode="External"/><Relationship Id="rId3" Type="http://schemas.openxmlformats.org/officeDocument/2006/relationships/hyperlink" Target="http://www.progress.com/progress/products/documentation/docs/dvhbk/dvhbk.pdf" TargetMode="Externa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Object Oriented Programming</a:t>
            </a:r>
            <a:br>
              <a:rPr sz="4800"/>
            </a:br>
            <a:r>
              <a:rPr b="0" lang="en-US" sz="4800" spc="-1" strike="noStrike">
                <a:solidFill>
                  <a:srgbClr val="ccecff"/>
                </a:solidFill>
                <a:latin typeface="Arial"/>
              </a:rPr>
              <a:t>with </a:t>
            </a:r>
            <a:br>
              <a:rPr sz="4800"/>
            </a:br>
            <a:r>
              <a:rPr b="0" lang="en-US" sz="4800" spc="-1" strike="noStrike">
                <a:solidFill>
                  <a:srgbClr val="ccecff"/>
                </a:solidFill>
                <a:latin typeface="Arial"/>
              </a:rPr>
              <a:t>Progress 4GL</a:t>
            </a:r>
            <a:endParaRPr b="0" lang="en-US" sz="48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ott Aug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ap of the methods available</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etError()</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ck()</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lock()</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en()</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f we want to make two door objects?  Do we need to make two sets of variables?</a:t>
            </a:r>
            <a:endParaRPr b="0" lang="en-US" sz="3200" spc="-1" strike="noStrike">
              <a:solidFill>
                <a:srgbClr val="eaeaea"/>
              </a:solidFill>
              <a:latin typeface="Arial"/>
            </a:endParaRPr>
          </a:p>
          <a:p>
            <a:pPr lvl="1" marL="743040" indent="-285840">
              <a:spcBef>
                <a:spcPts val="700"/>
              </a:spcBef>
              <a:buClr>
                <a:srgbClr val="00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NO!  An object has all it’s variables pre-defined and scoped only to that object.  All we need to do is make another “instance” of the objec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object in the 4GL needs to be defined in a procedure fi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object’s attributes would be local variables to the fi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object’s methods would be internal procedures to the fi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make an “instance” of the object, one would run the file “persistentl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ject oriented files should begin with obj_ so that programmers know off the bat the file is object oriented.</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j_log.p is an object oriented log file management system.</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4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logging object is stored in a file</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j_log.p</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log management object has some attributes associated to i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file name of the file it manage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rror messaging subsystem.</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variable to determine if the file ope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logging object has some methods available to it:</a:t>
            </a:r>
            <a:endParaRPr b="0" lang="en-US" sz="28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etError()</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etLogFileName()</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it()             </a:t>
            </a:r>
            <a:r>
              <a:rPr b="0" lang="en-US" sz="2400" spc="-1" strike="noStrike">
                <a:solidFill>
                  <a:srgbClr val="00cc66"/>
                </a:solidFill>
                <a:latin typeface="Arial"/>
              </a:rPr>
              <a:t>[A “constructor”]</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itAppend() </a:t>
            </a:r>
            <a:r>
              <a:rPr b="0" lang="en-US" sz="2400" spc="-1" strike="noStrike">
                <a:solidFill>
                  <a:srgbClr val="00cc66"/>
                </a:solidFill>
                <a:latin typeface="Arial"/>
              </a:rPr>
              <a:t>[A “constructor”]</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stroy()      </a:t>
            </a:r>
            <a:r>
              <a:rPr b="0" lang="en-US" sz="2400" spc="-1" strike="noStrike">
                <a:solidFill>
                  <a:srgbClr val="00cc66"/>
                </a:solidFill>
                <a:latin typeface="Arial"/>
              </a:rPr>
              <a:t>[A “destructor”]</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WrtLogFile()</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EraseLogFile()</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CopyLogFile()</a:t>
            </a:r>
            <a:endParaRPr b="0" lang="en-US" sz="2400" spc="-1" strike="noStrike">
              <a:solidFill>
                <a:srgbClr val="eaeaea"/>
              </a:solidFill>
              <a:latin typeface="Arial"/>
            </a:endParaRPr>
          </a:p>
          <a:p>
            <a:pPr lvl="1" marL="735480" indent="-28296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CloseFil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constructor is a method that is run on creation of an object.  In more OO languages, this is automatically done based on the arguments provid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log management object has some “private” methods available to it.  Private methods are methods that should only be called by the object it’s self:</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se should be pre-pended with prv so programmers know they are private.  Note the use of the PRIVATE keyword on the procedure definition.</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vAssignError()</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elps to ease management of the errors from other procedure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ementing an object</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cal variables to the object (attributes), will need their own Set*() and Get*() methods because the 4GL does not allow external programs to access them directl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eating an instance of the object</a:t>
            </a:r>
            <a:endParaRPr b="0" lang="en-US" sz="4000" spc="-1" strike="noStrike">
              <a:solidFill>
                <a:srgbClr val="ccecff"/>
              </a:solidFill>
              <a:latin typeface="Arial"/>
            </a:endParaRPr>
          </a:p>
        </p:txBody>
      </p:sp>
      <p:sp>
        <p:nvSpPr>
          <p:cNvPr id="25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that an object is defined, how do we use i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 of OOP</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type of </a:t>
            </a:r>
            <a:r>
              <a:rPr b="0" lang="en-US" sz="2000" spc="-1" strike="noStrike" u="sng">
                <a:solidFill>
                  <a:srgbClr val="65b2ff"/>
                </a:solidFill>
                <a:uFillTx/>
                <a:latin typeface="Arial"/>
                <a:hlinkClick r:id="rId1"/>
              </a:rPr>
              <a:t>programming</a:t>
            </a:r>
            <a:r>
              <a:rPr b="0" lang="en-US" sz="2000" spc="-1" strike="noStrike" u="sng">
                <a:solidFill>
                  <a:srgbClr val="eaeaea"/>
                </a:solidFill>
                <a:uFillTx/>
                <a:latin typeface="Arial"/>
              </a:rPr>
              <a:t> in which </a:t>
            </a:r>
            <a:r>
              <a:rPr b="0" lang="en-US" sz="2000" spc="-1" strike="noStrike" u="sng">
                <a:solidFill>
                  <a:srgbClr val="65b2ff"/>
                </a:solidFill>
                <a:uFillTx/>
                <a:latin typeface="Arial"/>
                <a:hlinkClick r:id="rId2"/>
              </a:rPr>
              <a:t>programmers</a:t>
            </a:r>
            <a:r>
              <a:rPr b="0" lang="en-US" sz="2000" spc="-1" strike="noStrike" u="sng">
                <a:solidFill>
                  <a:srgbClr val="eaeaea"/>
                </a:solidFill>
                <a:uFillTx/>
                <a:latin typeface="Arial"/>
              </a:rPr>
              <a:t> define not only the </a:t>
            </a:r>
            <a:r>
              <a:rPr b="0" lang="en-US" sz="2000" spc="-1" strike="noStrike" u="sng">
                <a:solidFill>
                  <a:srgbClr val="65b2ff"/>
                </a:solidFill>
                <a:uFillTx/>
                <a:latin typeface="Arial"/>
                <a:hlinkClick r:id="rId3"/>
              </a:rPr>
              <a:t>data type</a:t>
            </a:r>
            <a:r>
              <a:rPr b="0" lang="en-US" sz="2000" spc="-1" strike="noStrike" u="sng">
                <a:solidFill>
                  <a:srgbClr val="eaeaea"/>
                </a:solidFill>
                <a:uFillTx/>
                <a:latin typeface="Arial"/>
              </a:rPr>
              <a:t> of a </a:t>
            </a:r>
            <a:r>
              <a:rPr b="0" lang="en-US" sz="2000" spc="-1" strike="noStrike" u="sng">
                <a:solidFill>
                  <a:srgbClr val="65b2ff"/>
                </a:solidFill>
                <a:uFillTx/>
                <a:latin typeface="Arial"/>
                <a:hlinkClick r:id="rId4"/>
              </a:rPr>
              <a:t>data structure</a:t>
            </a:r>
            <a:r>
              <a:rPr b="0" lang="en-US" sz="2000" spc="-1" strike="noStrike" u="sng">
                <a:solidFill>
                  <a:srgbClr val="eaeaea"/>
                </a:solidFill>
                <a:uFillTx/>
                <a:latin typeface="Arial"/>
              </a:rPr>
              <a:t>, but also the types of operations (</a:t>
            </a:r>
            <a:r>
              <a:rPr b="0" lang="en-US" sz="2000" spc="-1" strike="noStrike" u="sng">
                <a:solidFill>
                  <a:srgbClr val="65b2ff"/>
                </a:solidFill>
                <a:uFillTx/>
                <a:latin typeface="Arial"/>
                <a:hlinkClick r:id="rId5"/>
              </a:rPr>
              <a:t>functions</a:t>
            </a:r>
            <a:r>
              <a:rPr b="0" lang="en-US" sz="2000" spc="-1" strike="noStrike" u="sng">
                <a:solidFill>
                  <a:srgbClr val="eaeaea"/>
                </a:solidFill>
                <a:uFillTx/>
                <a:latin typeface="Arial"/>
              </a:rPr>
              <a:t>) that can be applied to the data structure. In this way, the data structure becomes an </a:t>
            </a:r>
            <a:r>
              <a:rPr b="0" lang="en-US" sz="2000" spc="-1" strike="noStrike" u="sng">
                <a:solidFill>
                  <a:srgbClr val="65b2ff"/>
                </a:solidFill>
                <a:uFillTx/>
                <a:latin typeface="Arial"/>
                <a:hlinkClick r:id="rId6"/>
              </a:rPr>
              <a:t>object</a:t>
            </a:r>
            <a:r>
              <a:rPr b="0" lang="en-US" sz="2000" spc="-1" strike="noStrike">
                <a:solidFill>
                  <a:srgbClr val="eaeaea"/>
                </a:solidFill>
                <a:latin typeface="Arial"/>
              </a:rPr>
              <a:t> that includes both </a:t>
            </a:r>
            <a:r>
              <a:rPr b="0" lang="en-US" sz="2000" spc="-1" strike="noStrike" u="sng">
                <a:solidFill>
                  <a:srgbClr val="65b2ff"/>
                </a:solidFill>
                <a:uFillTx/>
                <a:latin typeface="Arial"/>
                <a:hlinkClick r:id="rId7"/>
              </a:rPr>
              <a:t>data</a:t>
            </a:r>
            <a:r>
              <a:rPr b="0" lang="en-US" sz="2000" spc="-1" strike="noStrike" u="sng">
                <a:solidFill>
                  <a:srgbClr val="eaeaea"/>
                </a:solidFill>
                <a:uFillTx/>
                <a:latin typeface="Arial"/>
              </a:rPr>
              <a:t> and functions. In addition, programmers can create relationships between one object and another. For example, objects can </a:t>
            </a:r>
            <a:r>
              <a:rPr b="0" i="1" lang="en-US" sz="2000" spc="-1" strike="noStrike">
                <a:solidFill>
                  <a:srgbClr val="eaeaea"/>
                </a:solidFill>
                <a:latin typeface="Arial"/>
              </a:rPr>
              <a:t>inherit</a:t>
            </a:r>
            <a:r>
              <a:rPr b="0" lang="en-US" sz="2000" spc="-1" strike="noStrike">
                <a:solidFill>
                  <a:srgbClr val="eaeaea"/>
                </a:solidFill>
                <a:latin typeface="Arial"/>
              </a:rPr>
              <a:t> characteristics from other object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ne of the principal advantages of object-oriented programming techniques over procedural programming techniques is that they enable programmers to create </a:t>
            </a:r>
            <a:r>
              <a:rPr b="0" lang="en-US" sz="2000" spc="-1" strike="noStrike" u="sng">
                <a:solidFill>
                  <a:srgbClr val="65b2ff"/>
                </a:solidFill>
                <a:uFillTx/>
                <a:latin typeface="Arial"/>
                <a:hlinkClick r:id="rId8"/>
              </a:rPr>
              <a:t>modules</a:t>
            </a:r>
            <a:r>
              <a:rPr b="0" lang="en-US" sz="2000" spc="-1" strike="noStrike" u="sng">
                <a:solidFill>
                  <a:srgbClr val="eaeaea"/>
                </a:solidFill>
                <a:uFillTx/>
                <a:latin typeface="Arial"/>
              </a:rPr>
              <a:t> that do not need to be changed when a new type of object is added. A programmer can simply create a new object that inherits many of its </a:t>
            </a:r>
            <a:r>
              <a:rPr b="0" lang="en-US" sz="2000" spc="-1" strike="noStrike" u="sng">
                <a:solidFill>
                  <a:srgbClr val="65b2ff"/>
                </a:solidFill>
                <a:uFillTx/>
                <a:latin typeface="Arial"/>
                <a:hlinkClick r:id="rId9"/>
              </a:rPr>
              <a:t>features</a:t>
            </a:r>
            <a:r>
              <a:rPr b="0" lang="en-US" sz="2000" spc="-1" strike="noStrike" u="sng">
                <a:solidFill>
                  <a:srgbClr val="eaeaea"/>
                </a:solidFill>
                <a:uFillTx/>
                <a:latin typeface="Arial"/>
              </a:rPr>
              <a:t> from existing objects. This makes object-oriented programs easier to modify. </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ate an instance of an object</a:t>
            </a:r>
            <a:endParaRPr b="0" lang="en-US" sz="4400" spc="-1" strike="noStrike">
              <a:solidFill>
                <a:srgbClr val="ccecff"/>
              </a:solidFill>
              <a:latin typeface="Arial"/>
            </a:endParaRPr>
          </a:p>
        </p:txBody>
      </p:sp>
      <p:sp>
        <p:nvSpPr>
          <p:cNvPr id="25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bjects need to be referred through Progress 4GL handles.  The code below says we are expecting to work with two object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Object instance handles */</a:t>
            </a:r>
            <a:endParaRPr b="0" lang="en-US" sz="1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DEFINE VARIABLE hobjlog_SystemLogFile AS HANDLE NO-UNDO.</a:t>
            </a:r>
            <a:endParaRPr b="0" lang="en-US" sz="1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DEFINE VARIABLE hobjlog_ProgrammerLogFile AS HANDLE NO-UNDO.</a:t>
            </a:r>
            <a:endParaRPr b="0" lang="en-US" sz="1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C++ Version */</a:t>
            </a:r>
            <a:endParaRPr b="0" lang="en-US" sz="1400" spc="-1" strike="noStrike">
              <a:solidFill>
                <a:srgbClr val="eaeaea"/>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ObjLog *hobjlog_SystemLogFile</a:t>
            </a:r>
            <a:r>
              <a:rPr b="0" lang="en-US" sz="1200" spc="-1" strike="noStrike">
                <a:solidFill>
                  <a:srgbClr val="eaeaea"/>
                </a:solidFill>
                <a:latin typeface="Courier New"/>
              </a:rPr>
              <a:t>x;</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ObjLog *hobjlog_ProgrammerLogFile</a:t>
            </a:r>
            <a:r>
              <a:rPr b="0" lang="en-US" sz="1200" spc="-1" strike="noStrike">
                <a:solidFill>
                  <a:srgbClr val="eaeaea"/>
                </a:solidFill>
                <a:latin typeface="Courier New"/>
              </a:rPr>
              <a:t>;</a:t>
            </a:r>
            <a:endParaRPr b="0" lang="en-US" sz="1200" spc="-1" strike="noStrike">
              <a:solidFill>
                <a:srgbClr val="eaeaea"/>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ate an instance of an object.</a:t>
            </a: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ce we have handles to manage our instances, we go ahead and make instanc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Create two instances of the Logging object */</a:t>
            </a: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RUN obj_log.p PERSISTENT SET hobjlog_SystemLogFile.</a:t>
            </a: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RUN obj_log.p PERSISTENT SET hobjlog_ProgrammerLogFile.</a:t>
            </a: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C++ Version */</a:t>
            </a: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Not needed!</a:t>
            </a:r>
            <a:endParaRPr b="0" lang="en-US" sz="1400" spc="-1" strike="noStrike">
              <a:solidFill>
                <a:srgbClr val="eaeaea"/>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ate an instance of an object</a:t>
            </a:r>
            <a:endParaRPr b="0" lang="en-US" sz="4400" spc="-1" strike="noStrike">
              <a:solidFill>
                <a:srgbClr val="ccecff"/>
              </a:solidFill>
              <a:latin typeface="Arial"/>
            </a:endParaRPr>
          </a:p>
        </p:txBody>
      </p:sp>
      <p:sp>
        <p:nvSpPr>
          <p:cNvPr id="26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lymorphism is weak in the language (er, actually kind of non-existent.)  You will need to choose the constructor manually.</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4GL does not let us call the constructor automatically like some languages do (C++ for example.)  We need to call those separately:</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Call their constructors */</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RUN InitAppend IN hobjlog_SystemLogFile ("/tmp/systemlogfile.txt").</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RUN InitAppend IN hobjlog_ProgrammerLogFile ("/tmp/programmerlogfile.txt").</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C++ Version */</a:t>
            </a:r>
            <a:endParaRPr b="0" lang="en-US" sz="1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Hobjlog_ProgrammerLogFile = new ObjLog ("/tmp/programmerlogfile.txt");</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an instance of an object</a:t>
            </a:r>
            <a:endParaRPr b="0" lang="en-US" sz="4400" spc="-1" strike="noStrike">
              <a:solidFill>
                <a:srgbClr val="ccecff"/>
              </a:solidFill>
              <a:latin typeface="Arial"/>
            </a:endParaRPr>
          </a:p>
        </p:txBody>
      </p:sp>
      <p:sp>
        <p:nvSpPr>
          <p:cNvPr id="26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ce an object has been allocated and it’s constructor has been called, one can begin working it’s methods:</a:t>
            </a:r>
            <a:endParaRPr b="0" lang="en-US" sz="3200" spc="-1" strike="noStrike">
              <a:solidFill>
                <a:srgbClr val="eaeaea"/>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all into their "activity" methods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RUN DoWrtLogFile IN hobjlog_SystemLogFile ("This should be in system log file.").</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RUN DoWrtLogFile IN hobjlog_ProgrammerLogFile ("This should be in programmer log file.").</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 Version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hobjlog_SystemLogFile-&gt;DoWrtLogFile("This should be in system log file.");</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hobjlog_ProgrammerLogFile-&gt;DoWrtLogFile("This should be in programmer log file.");</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an object instance</a:t>
            </a:r>
            <a:endParaRPr b="0" lang="en-US" sz="4400" spc="-1" strike="noStrike">
              <a:solidFill>
                <a:srgbClr val="ccecff"/>
              </a:solidFill>
              <a:latin typeface="Arial"/>
            </a:endParaRPr>
          </a:p>
        </p:txBody>
      </p:sp>
      <p:sp>
        <p:nvSpPr>
          <p:cNvPr id="26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e of the good things about objects is that they can know about themselves.  Here is a method that returns the log file the object is writing to:</a:t>
            </a:r>
            <a:endParaRPr b="0" lang="en-US" sz="3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 Display the log files these objects are using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RUN GetLogFileName IN hobjlog_SystemLogFile (OUTPUT c1).</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RUN GetLogFileName IN hobjlog_ProgrammerLogFile (OUTPUT c2).</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disp c1 c2.</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 C++ Version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cout &lt;&lt; hobjlog_SystemLogFile-&gt;GetLogFileName();</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troying an object instance</a:t>
            </a:r>
            <a:endParaRPr b="0" lang="en-US" sz="44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you are finished with an object, you should call it’s “destructor.”  Note you need to delete it’s persistence handle.</a:t>
            </a:r>
            <a:endParaRPr b="0" lang="en-US" sz="3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 Call their destructors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RUN Destroy IN hobjlog_SystemLogFile.</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DELETE WIDGET hobjlog_SystemLogFile.</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RUN Destroy IN hobjlog_ProgrammerLogFile.</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DELETE WIDGET hobjlog_ProgrammerLogFile.</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 C++ Version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urier New"/>
              </a:rPr>
              <a:t>delete hobjlog_ProgrammerLogFile;</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ssing Objects around</a:t>
            </a: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e can pass objects to other routines by passing their handles to the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ndles can be converted into strings with the STRING() function, and returned to a handle type with the WIDGET-HANDLE() funct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ance</a:t>
            </a:r>
            <a:endParaRPr b="0" lang="en-US" sz="44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are two ways for inheritance to work.</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super-procedures.</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an instance of the base object inherited and call into it directly.</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has it’s pro’s and con’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calls</a:t>
            </a: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ts explore number 2.  It is easier to understan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calls</a:t>
            </a:r>
            <a:endParaRPr b="0" lang="en-US" sz="4400" spc="-1" strike="noStrike">
              <a:solidFill>
                <a:srgbClr val="ccecff"/>
              </a:solidFill>
              <a:latin typeface="Arial"/>
            </a:endParaRPr>
          </a:p>
        </p:txBody>
      </p:sp>
      <p:sp>
        <p:nvSpPr>
          <p:cNvPr id="276"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Good</a:t>
            </a:r>
            <a:endParaRPr b="0" lang="en-US" sz="20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etty easy to determine the flow of control.</a:t>
            </a:r>
            <a:endParaRPr b="0" lang="en-US" sz="20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etty easy to manage different instances of parent objects because they are scoped to the child object by handle and managed by constructor and destructor calls.</a:t>
            </a:r>
            <a:endParaRPr b="0" lang="en-US" sz="20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etty easy to write “over-ride” method.  Just have your child do what it does, with/without running the parent’s method.</a:t>
            </a:r>
            <a:endParaRPr b="0" lang="en-US" sz="2000" spc="-1" strike="noStrike">
              <a:solidFill>
                <a:srgbClr val="eaeaea"/>
              </a:solidFill>
              <a:latin typeface="Arial"/>
            </a:endParaRPr>
          </a:p>
        </p:txBody>
      </p:sp>
      <p:sp>
        <p:nvSpPr>
          <p:cNvPr id="277"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Bad</a:t>
            </a:r>
            <a:endParaRPr b="0" lang="en-US" sz="20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f the parent has it’s parameters changed, all children need to be found and have their parameters changed.</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of an object</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ts examine what would be taken to make an object representing a door.</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calls</a:t>
            </a: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your constructors, you create parent object(s) instance(s) of the child object, then call it’s constructors in your child’s constructor:</a:t>
            </a:r>
            <a:endParaRPr b="0" lang="en-US" sz="3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DEFINE VARIABLE hobj_Parent AS HANDLE NO-UNDO.  /* Parent object’s handle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alling your init (constructor) will automatically instance a parent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PROCEDURE Init:</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RUN obj_base.p PERSISTENT SET hobj_Parent. /* Create instance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RUN Init IN hobj_Parent.                   /* Call it’s constructor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END.</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calls</a:t>
            </a: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stroying parent objects of child object.  In your child’s destructor, be sure to call the destructors of inherited objects and clean up memory.</a:t>
            </a:r>
            <a:endParaRPr b="0" lang="en-US" sz="3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DEFINE VARIABLE hobj_Parent AS HANDLE NO-UNDO.</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alling your Destroy (destructor) will automatically delete instance a parent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all other instances if inheriting more than one object.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PROCEDURE Destroy:</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RUN Destroy IN hobj_Parent.</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DELETE OBJECT hobj_Parent.</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END.</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calls</a:t>
            </a:r>
            <a:endParaRPr b="0" lang="en-US" sz="4400" spc="-1" strike="noStrike">
              <a:solidFill>
                <a:srgbClr val="ccecff"/>
              </a:solidFill>
              <a:latin typeface="Arial"/>
            </a:endParaRPr>
          </a:p>
        </p:txBody>
      </p:sp>
      <p:sp>
        <p:nvSpPr>
          <p:cNvPr id="2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ing parent objects of child object.  You will need to write a “wrapper” method that passes arguments from your child’s procedure into the parent’s procedure.</a:t>
            </a:r>
            <a:endParaRPr b="0" lang="en-US" sz="3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DEFINE VARIABLE hobj_Parent AS HANDLE NO-UNDO.</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all into parent object directly.  No over-riding code is included.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PROCEDURE DoThis:</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RUN DoThis IN hobj_Parent.</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END.</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calls</a:t>
            </a:r>
            <a:endParaRPr b="0" lang="en-US" sz="4400" spc="-1" strike="noStrike">
              <a:solidFill>
                <a:srgbClr val="ccecff"/>
              </a:solidFill>
              <a:latin typeface="Arial"/>
            </a:endParaRPr>
          </a:p>
        </p:txBody>
      </p:sp>
      <p:sp>
        <p:nvSpPr>
          <p:cNvPr id="28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is an example of over-riding the method of a parent object in the child object.  Simply don’t call the parent’s method (unless you need t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Call into parent object directly.  This is an over-ride of an existing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parent function.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PROCEDURE DoThat:</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 Your own code.  Call parent object for what ever or not call the parent. */</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END.</a:t>
            </a:r>
            <a:endParaRPr b="0" lang="en-US" sz="1200" spc="-1" strike="noStrike">
              <a:solidFill>
                <a:srgbClr val="eaeaea"/>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Super-procedures</a:t>
            </a:r>
            <a:endParaRPr b="0" lang="en-US" sz="4400" spc="-1" strike="noStrike">
              <a:solidFill>
                <a:srgbClr val="ccecff"/>
              </a:solidFill>
              <a:latin typeface="Arial"/>
            </a:endParaRPr>
          </a:p>
        </p:txBody>
      </p:sp>
      <p:sp>
        <p:nvSpPr>
          <p:cNvPr id="28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Good</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 need for “wrapper” procedures.  Parent methods automatically made available.</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can inherit functions.</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ultiple “vertical” object inheritance works great!</a:t>
            </a:r>
            <a:endParaRPr b="0" lang="en-US" sz="1800" spc="-1" strike="noStrike">
              <a:solidFill>
                <a:srgbClr val="eaeaea"/>
              </a:solidFill>
              <a:latin typeface="Arial"/>
            </a:endParaRPr>
          </a:p>
        </p:txBody>
      </p:sp>
      <p:sp>
        <p:nvSpPr>
          <p:cNvPr id="288"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Bad</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ne needs to be careful how Supers are stacked.  Less control over which parent object’s method is called if two parents with the same method.  No “switcharoo’s” determining order of parent methods called.</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esn’t handle “horizontal” objects very well, that is an object of two base objects with the same method.  MethodA might need one super-procedure stack order while MethodB needs another.</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tta start up all those parents and know you need to start em up.</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herit by Super Procedures</a:t>
            </a: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ry similar to the inherit by call method.</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e the progress Expert Series book:</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5b2ff"/>
                </a:solidFill>
                <a:uFillTx/>
                <a:latin typeface="Arial"/>
                <a:hlinkClick r:id="rId1"/>
              </a:rPr>
              <a:t>OpenEdge</a:t>
            </a:r>
            <a:r>
              <a:rPr b="0" lang="en-US" sz="3200" spc="-1" strike="noStrike" u="sng">
                <a:solidFill>
                  <a:srgbClr val="65b2ff"/>
                </a:solidFill>
                <a:uFillTx/>
                <a:latin typeface="Arial"/>
                <a:hlinkClick r:id="rId2"/>
              </a:rPr>
              <a:t> Development: Progress 4GL Handbook, by John </a:t>
            </a:r>
            <a:r>
              <a:rPr b="0" lang="en-US" sz="3200" spc="-1" strike="noStrike" u="sng">
                <a:solidFill>
                  <a:srgbClr val="65b2ff"/>
                </a:solidFill>
                <a:uFillTx/>
                <a:latin typeface="Arial"/>
                <a:hlinkClick r:id="rId3"/>
              </a:rPr>
              <a:t>Sadd</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2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rrections and contributions</a:t>
            </a: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im Townsend, www.tttechno.com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lin Stutley, ws.com.au</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ossible way to automate destructors</a:t>
            </a:r>
            <a:endParaRPr b="0" lang="en-US" sz="4000" spc="-1" strike="noStrike">
              <a:solidFill>
                <a:srgbClr val="ccecff"/>
              </a:solidFill>
              <a:latin typeface="Arial"/>
            </a:endParaRPr>
          </a:p>
        </p:txBody>
      </p:sp>
      <p:sp>
        <p:nvSpPr>
          <p:cNvPr id="2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 Main Block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0" lang="en-US" sz="1200" spc="-1" strike="noStrike">
                <a:solidFill>
                  <a:srgbClr val="eaeaea"/>
                </a:solidFill>
                <a:latin typeface="Courier New"/>
              </a:rPr>
              <a:t>ON CLOSE OF THIS-PROCEDURE RUN ipDispose IN THIS-PROCEDURE.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IF p_OptionalParameter = ? THEN RUN ipConstructor IN THIS-PROCEDURE().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ELSE RUN ipConstructor2 IN THIS-PROCEDURE(p_OptionalParameter).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RETURN.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Then in any invoking procedure ...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RUN xyz.r PERSISTENT SET vObjectHandle(?). ...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PPLY "CLOSE":U TO vObjectHandle. /* defacto garbage collection */ </a:t>
            </a: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know that a door has certain state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en</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osed</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cked</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locke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states would be stored in an attribute of the object, a variable of the object that is part of the objec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Locked = {Yes, No}</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Open = {Yes, No}</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e can do certain things with the door, certain action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actions are called methods.  These are the things one can do with the door objec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ck()</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Lock()</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en()</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os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metimes what we want to happen to the door needs to send some feedback.  For example, trying to open() an already opened door.  We create some attributes for tha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ErrorMsg = “Human friendly description”</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ErrorCode = {Z}</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oor Object</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ap of variables associated with the objec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ErrorCod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ErrorMsg</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Locked</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Open</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4:16:09Z</dcterms:created>
  <dc:creator>sauge</dc:creator>
  <dc:description/>
  <dc:language>en-US</dc:language>
  <cp:lastModifiedBy>sauge</cp:lastModifiedBy>
  <dcterms:modified xsi:type="dcterms:W3CDTF">2004-04-27T20:42:16Z</dcterms:modified>
  <cp:revision>17</cp:revision>
  <dc:subject/>
  <dc:title>Object Oriented Programming with  Progress 4GL</dc:title>
</cp:coreProperties>
</file>