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D7EF26-099B-48D7-B6CD-1E498508A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07C6A0-A162-4A96-A1DF-14A7471CF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38A0F5-E19A-46D6-9E9C-477F4299D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61A03F-21EC-47A5-97E2-60E222247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23BF2-A99C-4493-A199-354529B2B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22B6F-0389-4244-868C-E232CBCAE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D937D-EFD8-4B0F-8CAD-40863A06D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2504A-3008-4CF6-9587-828F86540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ADDF5-350A-42D6-AA2B-D929AA2BA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5E06C-59D5-4C99-9E2C-D7E3DA98E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FA426-1268-42B4-8A0D-BC266A273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DF8091-AB79-45FB-B2FF-BFC1D58D8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E7B30-7D1C-4D12-AEC5-88A4286FE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C7FFE-2975-405F-B54D-C2DE7E8B2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42655-7493-48B6-9968-AD31FB4AF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CC490-FF52-4DFD-9282-FC78B91DC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575EB-3945-4E5D-A707-E818F85B3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110B3C-7855-41B6-97D2-8533EEAF3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4E7271-FB3A-4928-84B9-FB1F55F79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7DF2F2-22A8-4AA7-B844-D7E3DC92E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DB8EDD-DFD6-4DFD-B8D8-E9F6CF031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AF45CF-EA52-4FBF-9BF3-79EB926DE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EDBE2C-191F-4AD9-BDD0-B8770DE11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08C208-7810-4547-9859-515440E41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CBBA2-6535-4AA0-9F8C-D26BBA7C486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5E6A2-0A40-4FAC-ADBD-746DBC1C9FE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fdef6"/>
                </a:solidFill>
                <a:latin typeface="Arial"/>
              </a:rPr>
              <a:t>Why Use</a:t>
            </a:r>
            <a:br>
              <a:rPr sz="4800"/>
            </a:br>
            <a:r>
              <a:rPr b="0" lang="en-US" sz="4800" spc="-1" strike="noStrike">
                <a:solidFill>
                  <a:srgbClr val="dfdef6"/>
                </a:solidFill>
                <a:latin typeface="Arial"/>
              </a:rPr>
              <a:t>The Denkh HTML Reporter</a:t>
            </a:r>
            <a:endParaRPr b="0" lang="en-US" sz="4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cott Au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mduus Information Works, In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Quick Feature List Continued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de-labels for each field can be specified for each report layou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ge totals, sub-totals &amp; totals (without turning into a pretze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nce it is on the web, Preview or print to screen with optional paper printing later 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pen Source so you can modify look and feel, as well research “how it does it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HTML Editors to develop your report sections (then cut and paste the code in and out of the editor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Quick Features List Continued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ynamic queries defined by the us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mat reports using HTML/CSS2 for a more polished loo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bility to include embedded reports within reports (a report repository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bility to embed data fields from the query into the re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bility to embed page breaks into the re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bility to ask the report user questions for report parame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Quick Features List Continued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bility to restrict which tables the report generator can re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bility to look into Progress, Oracle, and ODBC based datab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b based so it can be reached easily by people (include in your portal!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ll out to Progress 4GL programs from within a report (good for integratio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session variables within a report (good for integratio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clude date and time within a report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Quick Features List Continued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clude user’s input in the output of the repo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bility to access rowid of records in report (good for integratio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DF/MS Word document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port examples/Source Code examp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sy to use report listing system with search by name functionalit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Quick Features List Continued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ke “green bar” repor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ke letter based repor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ke sophisticated layouts repor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clude your logo/images in repor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 different types of fonts in your repor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Integrate into existing system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 the tables available in existing Progress and non-Progress application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Q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patch-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ernally Develop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Data Source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gress RDB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racle via the Progress Data Ser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S SQL via the Progress Data Ser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ther ODBC via the Progress Data Ser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ther…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Ease of suppor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s a web browser as the cli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l company users can view the reports with included software (Internet Explorer, Netscape, Mozilla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 program installations to be needed on the user’s comput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egrate into the company intranet/extranet porta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Skills needed to create report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 understanding of HTM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 understanding of the tables within the appl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 understanding of the Denkh HTML Reporter macro’s (See accompanying presentatio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 understanding of preparing quer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ining is available from Amduus Information Works, In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Infrastructure Needed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database to use for report da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bspeed Transaction Ser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using a non-Progress database, then the appropriate Data Ser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web ser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web brows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Audience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Decision Mak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gramm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port Seek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Open Source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you need to better understand the system, one can read the cod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sier integration with other ap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rganizations sometimes share code with Amduus allowing additional features to become availab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More information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tact Scott Auge at Amduus Information Works, Inc.  At sauge@amduus.c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tact James Arnold at Analyst’s Express, Inc.  At 888-889-909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fdef6"/>
                </a:solidFill>
                <a:latin typeface="Arial"/>
              </a:rPr>
              <a:t>About Amduus Information Works, Inc.</a:t>
            </a:r>
            <a:br>
              <a:rPr sz="3600"/>
            </a:br>
            <a:r>
              <a:rPr b="0" lang="en-US" sz="2400" spc="-1" strike="noStrike">
                <a:solidFill>
                  <a:srgbClr val="dfdef6"/>
                </a:solidFill>
                <a:latin typeface="Arial"/>
              </a:rPr>
              <a:t>http://www.amduus.com</a:t>
            </a:r>
            <a:endParaRPr b="0" lang="en-US" sz="2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ited States Based Corpo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n provide Webspeed Train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vides multiple open source applications to the Progress commun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n provide application customiz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st work with Manufacturing, Court/Law Enforcement, Service industri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What is it?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report writer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nerate reports without the need of coding, compiling, and releasing program modules…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t still powerful enough to integrate with programmer’s work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What is it?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report generator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rs can search for a re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report requests input parameters from the us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report is presented to the us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What is it?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report manager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vides a repository of multiple repor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eate, Modify, and Delete repor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Run Through….</a:t>
            </a:r>
            <a:br>
              <a:rPr sz="4000"/>
            </a:br>
            <a:r>
              <a:rPr b="0" lang="en-US" sz="3600" spc="-1" strike="noStrike">
                <a:solidFill>
                  <a:srgbClr val="dfdef6"/>
                </a:solidFill>
                <a:latin typeface="Arial"/>
              </a:rPr>
              <a:t>Choose a report to run…</a:t>
            </a:r>
            <a:endParaRPr b="0" lang="en-US" sz="3600" spc="-1" strike="noStrike">
              <a:solidFill>
                <a:srgbClr val="dfdef6"/>
              </a:solidFill>
              <a:latin typeface="Arial"/>
            </a:endParaRPr>
          </a:p>
        </p:txBody>
      </p:sp>
      <p:grpSp>
        <p:nvGrpSpPr>
          <p:cNvPr id="525" name=""/>
          <p:cNvGrpSpPr/>
          <p:nvPr/>
        </p:nvGrpSpPr>
        <p:grpSpPr>
          <a:xfrm>
            <a:off x="1447920" y="1600200"/>
            <a:ext cx="6019560" cy="4533840"/>
            <a:chOff x="1447920" y="1600200"/>
            <a:chExt cx="6019560" cy="4533840"/>
          </a:xfrm>
        </p:grpSpPr>
        <p:pic>
          <p:nvPicPr>
            <p:cNvPr id="526" name="" descr=""/>
            <p:cNvPicPr/>
            <p:nvPr/>
          </p:nvPicPr>
          <p:blipFill>
            <a:blip r:embed="rId1"/>
            <a:stretch/>
          </p:blipFill>
          <p:spPr>
            <a:xfrm>
              <a:off x="1447920" y="1600200"/>
              <a:ext cx="6019560" cy="453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7" name=""/>
            <p:cNvSpPr txBox="1"/>
            <p:nvPr/>
          </p:nvSpPr>
          <p:spPr>
            <a:xfrm>
              <a:off x="1447920" y="1600200"/>
              <a:ext cx="6019560" cy="4533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Run Through…</a:t>
            </a:r>
            <a:br>
              <a:rPr sz="4000"/>
            </a:br>
            <a:r>
              <a:rPr b="0" lang="en-US" sz="3600" spc="-1" strike="noStrike">
                <a:solidFill>
                  <a:srgbClr val="dfdef6"/>
                </a:solidFill>
                <a:latin typeface="Arial"/>
              </a:rPr>
              <a:t>Run the report</a:t>
            </a:r>
            <a:endParaRPr b="0" lang="en-US" sz="3600" spc="-1" strike="noStrike">
              <a:solidFill>
                <a:srgbClr val="dfdef6"/>
              </a:solidFill>
              <a:latin typeface="Arial"/>
            </a:endParaRPr>
          </a:p>
        </p:txBody>
      </p:sp>
      <p:grpSp>
        <p:nvGrpSpPr>
          <p:cNvPr id="529" name=""/>
          <p:cNvGrpSpPr/>
          <p:nvPr/>
        </p:nvGrpSpPr>
        <p:grpSpPr>
          <a:xfrm>
            <a:off x="1523880" y="1676520"/>
            <a:ext cx="5791320" cy="4533840"/>
            <a:chOff x="1523880" y="1676520"/>
            <a:chExt cx="5791320" cy="4533840"/>
          </a:xfrm>
        </p:grpSpPr>
        <p:pic>
          <p:nvPicPr>
            <p:cNvPr id="530" name="" descr=""/>
            <p:cNvPicPr/>
            <p:nvPr/>
          </p:nvPicPr>
          <p:blipFill>
            <a:blip r:embed="rId1"/>
            <a:stretch/>
          </p:blipFill>
          <p:spPr>
            <a:xfrm>
              <a:off x="1523880" y="1676520"/>
              <a:ext cx="5791320" cy="453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1" name=""/>
            <p:cNvSpPr txBox="1"/>
            <p:nvPr/>
          </p:nvSpPr>
          <p:spPr>
            <a:xfrm>
              <a:off x="1523880" y="1676520"/>
              <a:ext cx="5791320" cy="4533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Run Through…</a:t>
            </a:r>
            <a:br>
              <a:rPr sz="4000"/>
            </a:br>
            <a:r>
              <a:rPr b="0" lang="en-US" sz="3600" spc="-1" strike="noStrike">
                <a:solidFill>
                  <a:srgbClr val="dfdef6"/>
                </a:solidFill>
                <a:latin typeface="Arial"/>
              </a:rPr>
              <a:t>The report!</a:t>
            </a:r>
            <a:endParaRPr b="0" lang="en-US" sz="3600" spc="-1" strike="noStrike">
              <a:solidFill>
                <a:srgbClr val="dfdef6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752480" y="1676520"/>
            <a:ext cx="5410440" cy="4533840"/>
            <a:chOff x="1752480" y="1676520"/>
            <a:chExt cx="5410440" cy="4533840"/>
          </a:xfrm>
        </p:grpSpPr>
        <p:pic>
          <p:nvPicPr>
            <p:cNvPr id="534" name="" descr=""/>
            <p:cNvPicPr/>
            <p:nvPr/>
          </p:nvPicPr>
          <p:blipFill>
            <a:blip r:embed="rId1"/>
            <a:stretch/>
          </p:blipFill>
          <p:spPr>
            <a:xfrm>
              <a:off x="1752480" y="1676520"/>
              <a:ext cx="5410440" cy="453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5" name=""/>
            <p:cNvSpPr txBox="1"/>
            <p:nvPr/>
          </p:nvSpPr>
          <p:spPr>
            <a:xfrm>
              <a:off x="1752480" y="1676520"/>
              <a:ext cx="5410440" cy="4533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Quick Feature Lis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bize your character or GUI appli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it to provide inquiry and lookups for your web based application!!!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•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velop reports without Provision, Crystal Reports, or Report Builder! No compiling needed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asy formatting of data and data layou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btotalling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ill down into other repor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ecify Column Heading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08T22:01:50Z</dcterms:created>
  <dc:creator>Superior Court</dc:creator>
  <dc:description/>
  <dc:language>en-US</dc:language>
  <cp:lastModifiedBy>Scott Auge</cp:lastModifiedBy>
  <dcterms:modified xsi:type="dcterms:W3CDTF">2003-01-10T07:00:45Z</dcterms:modified>
  <cp:revision>7</cp:revision>
  <dc:subject/>
  <dc:title>Why Use The Denkh HTML Reporter</dc:title>
</cp:coreProperties>
</file>