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B659-80A3-46DC-98ED-F2CA275C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1605-A508-42BD-8AF1-5DBE155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67B8-CAC0-4947-BB4F-1AD68894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AC37-ED15-4338-A80D-3777EBC3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1D4-BB76-403D-96EA-021EBCA4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8C44-8620-432E-AA6C-31703390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39B-4706-4FAC-BEB0-6E12C0E7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A135-F038-479E-A368-4D76C87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10C5-49A7-4AB5-B400-1849CE1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91FD-1BEE-4348-8306-16106D36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F71-E6BA-439B-8064-7A71547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FBAB-7563-4060-87E0-B8351A2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E9D0-A7FE-4AAE-B5D8-164C4DC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8DF5-19BE-4E53-AC53-776309A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0EB-28AB-4F09-8452-C78D3DB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F66-5C90-4EC3-90F2-14C9900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7D59-42D1-4ECD-9536-436A0C2E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FE77-CBA9-4C3D-AC48-34A4D83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FF36-6498-4FC3-B970-60DAB43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F36B-E14A-43DE-9747-EF90446E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C376-0932-4D9A-99E1-6E28D60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CD61-481B-41D3-8095-2D419BEB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2136-B042-411E-8E8D-F20F0C9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DFAF-E006-4068-9D08-7DA50CC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7549-9E32-4A30-B981-57053D092C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7D4-2DEA-4FEB-BB00-F6DD7DB57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veloping Reports with Denkh HTML Reporter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duus Information Works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add the report name in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rptname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d by the name of the report (useful for reports with similar outp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arguments for the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place user input in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inp() mac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inp() macro refers to the entries the user made to generate this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s: @inp(1) Thru @inp(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s: 11/22/02 Thru 11/23/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user entered 11/22/02 and 11/23/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d to the @plc() macro – for each @plc() macro, there is a @inp() macro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get user inputs into the quer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plc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s the prompting text as an arg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plc(Enter Beginning Date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the query of the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ed in strings, should be surrounded by “” a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Customer WHERE Customer.Name BEGINS “@plc(Customer name:)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embed reports into a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emb()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rguments seperated by a “,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is the name of 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are arguments to tha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o the embedded report should be in order of the @plc() in it’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o the embedded report should be seperated by the |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@emb(OrderHeader,100|1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call out to a pro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prg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the @emb() macro, except receives a Progress 4GL program in the first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@prg(AbbrWeekDay.p,11/10/02|Engli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can only return one output st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refer to a ROWID of a tabl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row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receives the name of the table to report the ROWI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@row(Custom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for embedded reports and program call-o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a calcul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calc()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rgument is the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erform +, -, *, / on algebraic expressions of integer/decimal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argument is th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nclude @fld() and @prg() mac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@calc(@fld(OrderLine.Qty) * @fld(OrderLine.Price),&gt;9.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running subtot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@trksubtotal(GrandTotal, @calc(@fld(OrderLine.Qty) * @fld(OrderLine.Price),&gt;9.99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subtotal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trksubtotal() macro populates an internal named accum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@rptsubtotal() macro returns the contents of the internal named accum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names means multiple totals can be r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By totaling can be done by names which are combinations of the break by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format a valu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fmt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rgument is the value (integer or decim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Argument is the format 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fmt(@fld(OrderLine.Price),$&gt;&gt;&gt;9.9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fmt(@fld(Audit.StartTime),HH:MM 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Drill Down into another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@drill() macro to create a hyperlink to another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rgument is name of the report to dri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argument are arguments to that report (as if the user had entered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ird argument states which window to put the results in (_blank, _self, yournam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argument provides what to display on the hyper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@drill(Look Up Order By Order Number,@fld(Order.OrderNum),_blank,@fld(Order.OrderNum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Designers who are interested in directly developing a report (versus using a Report Wizard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perform subtotal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@tblsubtotal() macro prepares a table of all the subtotal accumulators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ro Hierarch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’s used in report output are computed in this or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date(), @time(), @rp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fl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ro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In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pr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cal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trksubtota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rptsubtotal(), @tblsubtota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fm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dril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emb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cro Combin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can be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usually cannot be used in a recursive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 Reports CAN be recursive, where one report refers to another report, which in turn refers to another report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Using Macro’s to feed data to an embedded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@emb() macro is computed last, previous macro’s can be used within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@emb(CustomerHeader,@fld(Customer.CustomerNumb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s the report CustomerHeader with the data found in the field CustomerNumber of the current Customer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tional Macro Combin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the row ID of the table to @prg(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prg(FindSubCust.p,@row(Customer)|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the ROWID of Customer, as well a second argument of TRUE to the program FindSubCust.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re complex macro comput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acro embeds the report SubCustomer with the output of the program FindSubCust.p which receives a ROWID and string TRUE.  It also sends SubCustomer the value in the Customer.Number as a second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emb(SubCustomer, @prg(FindSubCust.p,@row(Customer)|TRUE)|@fld(Customer.Number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mbedded report is a report within a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 reports can call out to other embedded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a report designer to build a repository of report “pieces” to build more and more complex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using common embedded reports have a common look and feel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n embedded report cannot exceed 32KB of text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not to exceed 32KB on the section of a report calling out to an embedded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43000" y="1600200"/>
            <a:ext cx="6858000" cy="4533840"/>
            <a:chOff x="1143000" y="1600200"/>
            <a:chExt cx="6858000" cy="4533840"/>
          </a:xfrm>
        </p:grpSpPr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1143000" y="1600200"/>
              <a:ext cx="68580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 txBox="1"/>
            <p:nvPr/>
          </p:nvSpPr>
          <p:spPr>
            <a:xfrm>
              <a:off x="1143000" y="1600200"/>
              <a:ext cx="68580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mbedded Repor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report has an embedded report for the Line Items of the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report has as part of it’s Record Section the data from the Order formatted according to HTML Table r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bedded report has nothing in it’s Page Header, Summary, and Foo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to reach the rep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nkhReporter.html page is meant for the user’s to search for, list, and run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minHTMLRpt.html is meant for use by the report administr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act URL is dependent on the machine name, script path, and broker name as set up by your Webspeed administ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Scott Auge at Amduus Information Works, Inc.  At sauge@amduu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James Arnold at Analyst’s Express, Inc.  At 888-889-90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bout Amduus Information Works, Inc.</a:t>
            </a:r>
            <a:br>
              <a:rPr sz="36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http://www.amduus.com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Based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Webspee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ultiple open source applications to the Progres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ovide application custo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work with Manufacturing, Court/Law Enforcement, Service indus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RD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cle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SQL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ODBC via the Progress Dat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 pieces of the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ge H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cord sections (number of rows returned by the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ummary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ge Foo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me for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ort’s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acr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’s are used as place holders for the data to appear on the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acro’s are related to which database tables and fields are refer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are simple date, report name, and time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plicated one’s refer to specially written user programs or embedded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Putting data from the query into the repor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fld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@fld() macro receives the table and field name of the data currently available in the current row available from the qu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@fld(Customer.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put the current date on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date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uses the current date on the application server machine, not the client’s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arguments to the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to add the current time to the repor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@time(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he current time on the application server machine, not the user’s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arguments to the ma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9:31:33Z</dcterms:created>
  <dc:creator>Superior Court</dc:creator>
  <dc:description/>
  <dc:language>en-US</dc:language>
  <cp:lastModifiedBy>Scott Auge</cp:lastModifiedBy>
  <dcterms:modified xsi:type="dcterms:W3CDTF">2003-01-10T06:45:07Z</dcterms:modified>
  <cp:revision>12</cp:revision>
  <dc:subject/>
  <dc:title>Slide 1</dc:title>
</cp:coreProperties>
</file>