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4C55-118A-4AF4-9B1D-9F240E5D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DAD-C2F1-4025-83FA-84D32AAB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E38-5601-4F26-B7B0-4E0E5FA9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17348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51816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82880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17348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51816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FAD8-A8F4-4D73-AD4D-EC79B4F2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0E66-427B-40EF-BE8D-6939DCA1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BF37-C337-49DF-8771-4E814EEE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267B-DEFB-4585-BCBF-3C51CAAE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1A36-E51B-480C-A2CE-32F9A5F2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3439-16D6-4664-965B-A4A7BC46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828800" y="1828800"/>
            <a:ext cx="6934320" cy="109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5A80-3485-461D-89D1-DB60CFC9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7793-974E-4339-B564-ADB1A634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5824-DBC4-4DE6-A34C-6D11C90B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01F4-5EDD-4451-8919-2034F1F7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E8E2-866E-4A5C-83AD-9FB5E205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A71B-60D9-4098-87E4-E05768EC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29B3-137F-4404-AA59-09F5A6DD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17348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1816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82880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17348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51816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31FA-5052-4A0E-9B4C-E40DF746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1AEF-FD76-446F-B00E-991E6CC5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A25-293C-4A90-83F6-58DF3A8D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3719-6D86-42A9-A79E-2CFD9C96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828800" y="1828800"/>
            <a:ext cx="6934320" cy="109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F00F-0ECF-4291-A396-568B8B4C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DB21-42F9-45B0-AB29-F0FC0C04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5416-57DE-494F-829B-4B976465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E3E-1FA7-45DA-B043-F1EEE15F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75BB-E57F-4745-A704-A997CDA67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D875-DE9C-4BF8-A812-C3C9AA18D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Introduction to Service Express for the custom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2667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duus Information Works, In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ing the customer web sit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ustomer can see a list of tickets belonging to their compan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ustomer cannot see the tickets of another compan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0" y="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4495680" y="2050920"/>
            <a:ext cx="426744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nd of Present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Benefits for you and your custom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ers will have the ability to use a web site 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your organization of an iss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he issue easily with additional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your organization to inform the custom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ase of use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ny browser (IE, Netscape, Mozilla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okies are us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 and clear to use inter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ing the customer web sit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ly create an accou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ustomer number and authorization number nee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n existing account with an ID and passwo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inform the user outside of the protected area with info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0" y="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5"/>
          <a:stretch/>
        </p:blipFill>
        <p:spPr>
          <a:xfrm>
            <a:off x="4572000" y="2200320"/>
            <a:ext cx="41148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ing the customer web sit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on login, you can deliver a message to the custom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instructions for creating a ticket, listing existing tickets, updating existing tickets, updating their profile, and logging o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572000" y="2125800"/>
            <a:ext cx="41911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ing the customer web sit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p the customer determine the type of interaction to classify the ticket un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lated to equipment, invoices, credit, sale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cket types are definable by the site’s own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0" y="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4572000" y="2125800"/>
            <a:ext cx="41911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ing the customer web sit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rther clarify the interaction with a problem typ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types are definable by the site own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0" y="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4572000" y="2125800"/>
            <a:ext cx="41911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ing the customer web sit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ustomer can add free form text information the tick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ustomer gives the ticket a 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0" y="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4572000" y="2125800"/>
            <a:ext cx="41911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ing the customer web sit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icket is created.  The customer can add additional comments to the ticket via the work lo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ustomer can also change the status of the tick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osting company can define the statuses avail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4572000" y="2125800"/>
            <a:ext cx="41911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04:55:48Z</dcterms:created>
  <dc:creator>Scott Auge</dc:creator>
  <dc:description/>
  <dc:language>en-US</dc:language>
  <cp:lastModifiedBy>Scott Auge</cp:lastModifiedBy>
  <dcterms:modified xsi:type="dcterms:W3CDTF">2003-03-09T06:45:40Z</dcterms:modified>
  <cp:revision>3</cp:revision>
  <dc:subject/>
  <dc:title>Introduction to Service Express for the customer</dc:title>
</cp:coreProperties>
</file>