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14D-A581-4651-B51D-85105775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804-A100-49F5-AB18-75BBD9F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336-767F-4AF8-A0CD-D716C969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D84-697C-4758-BE14-F6D8EE61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06B0-7AC0-4D99-B4B2-D60D32F0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0B48-8157-4D59-8888-73886B07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9E79-7566-4038-B6BB-92B4EF9D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C215-4244-4647-87E8-F0EC2EA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F40F-AEDD-4D25-A610-8FE71161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BC55-066B-4A77-BE0A-C958746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CFF0-76E8-455E-A1C6-736DF4E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346-250E-4896-9C1B-E1F7F173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8C19-F26F-40C2-9D7E-1F59A9B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3F9-78B2-4B56-836E-82CF7EB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2C10-CA9E-4F99-A0F3-8E1C22D3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0CA2-3887-417F-A452-BD0384DC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830C-47A7-4A86-A84E-0B651443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0BF-78B4-458D-900C-0059C94A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171-DE29-4DC9-8725-569ED77D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E49-B70C-44C0-AA37-B0F1236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6BB-7A8C-41BF-B9CE-277A2BF0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6D8-A723-4A92-AA4D-B0B9F926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EC4-177D-44FD-BB8F-4299411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C84-73F7-4AEF-8392-3683A3B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3C40-BA80-4261-B459-6A9708C0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65D-4392-41C0-BEB4-A63E8BE9E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rvice Express: 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Information Works, In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plem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your domain to include the Amduus server so the application appears to be in your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can also host your domain if you already do not hav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can also host your web site if you already do not hav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plem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 link from an existing web site to the Service Express appl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of pres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at is Service Express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Express is a dual web site application to manage work orders, tickets, and other customer iss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“Introduction to Service Express for the Company.pp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“Introduction to Service Express for the Customer.pp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ce the application has web interfaces, the application can be hosted on Amduus’ servers and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problem solvers access a site via a web browser on their systems via th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customers access a site via a web browser on their systems via th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enefits of 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obtaining server hard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database administration on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system administration on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network connectivity to the server from the interne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pplication pric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cing can be based upon number of tickets created each mon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cing can be based upon number of internal users accessing the application per month up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ckets per mon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cing can be based upon a monthly charge up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ckets per mon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pplication pric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al pricing for solo server ho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er safety ne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pplication can be purchased from us for use on your serv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pplication is open source – all you need are programmers to figure out the intern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nth a back up of the database is sent to you.  Your data is yo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plem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or an Amduus Partner will assist you to perform business analysis for defi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et types, Problem Typ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internal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external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9:29:21Z</dcterms:created>
  <dc:creator>Scott Auge</dc:creator>
  <dc:description/>
  <dc:language>en-US</dc:language>
  <cp:lastModifiedBy>Scott Auge</cp:lastModifiedBy>
  <dcterms:modified xsi:type="dcterms:W3CDTF">2003-03-09T19:59:00Z</dcterms:modified>
  <cp:revision>1</cp:revision>
  <dc:subject/>
  <dc:title>Service Express: A hosted solution</dc:title>
</cp:coreProperties>
</file>