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912-FF91-48CF-8B7D-A1A2A7B9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DAA-99A0-426C-8431-4C91381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944-F2BF-4507-8ABB-75254844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D38-FC0F-4CD0-9338-462A0181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1903-54C9-4C57-B570-7B6D932A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5E35-E51A-41C3-9671-6AE071A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C999-D88D-4203-972A-06DC0DB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E779-A057-4969-BD7D-FED198E7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6D89-52E2-45FF-9A99-31EA4320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532A-964A-47E2-BD46-D800652A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9BCE-456E-452F-BDDF-589ACDE1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8A7-1FA2-4564-A5E8-F63F92EA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670F-CE08-4429-B129-93CACB8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3980-8A35-49BD-BE19-6314023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44F6-4694-4F47-94EC-9AE1DB8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7381-98B4-476E-AA70-A361936F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6FB1-FED0-4262-92FD-4B1D4BD0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E8B-5FD8-4295-B547-65966AA1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319-82AF-4D8A-81AD-B2451A26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FB7-5368-4C7D-9C24-51ACE99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F7D-862D-45A0-A77C-E9E657D3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B63-257E-4528-B960-2FDE988E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4ED-F744-45F7-A080-5239668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0B4-3467-4278-A481-4867E30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3A43-0C76-4E32-9C50-A2BF1A21D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1D4B-52C5-4889-B7D2-930EBB2D8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rvice Express: From the company’s prospectiv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Information Works, In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cket is created and assigned a reference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fault status and priority (based on problem type) are assigned to the ti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r can update the work log on the ti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can access ticket information from the ticket listing scre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icket can be updated by clicking the ticket refer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cket Types are defin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cket Types can be active or ina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Ticket Types appear on the ticket creation scree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Types are associated to a Ticket Ty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Types are defin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Types can be active or ina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Types have a set of definable statuses associated to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es should be used to relate work flow of the ticket in the organ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es can be active or ina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4495680" y="2182680"/>
            <a:ext cx="4191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es can be set to be chosen by the customer (such as Cancel) or not chosen by the custom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es can cause the ticket to disappear from the ticket listing scre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ticket is created, it is set to a definable default sta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Types have associated Priori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ies are definable by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ies can be active or not a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ly created ticket is defaulted to a definable pr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4419720" y="2133720"/>
            <a:ext cx="426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of pres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rchitecture of Service Expres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Express is composed of two web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eb site is used by the customers of the company implementing Service Express (See Introduction to Service Express for the Customer.pp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cond site is used by the company to manage the tickets.  This presentation focuses on the company’s internal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is controlled by Login and password challe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deliver a message to newly logged in us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use interface to manage tick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724280" y="2225520"/>
            <a:ext cx="411480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on of a ticket starts by identifying a customer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take tickets over the ph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up available to search for customer number by customer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419720" y="2108160"/>
            <a:ext cx="4267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icket for work has a site and contact associated with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of sites for the customer will be displa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r has the ability to add a site to the custo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of contacts will be made available to choose fro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tact can be added by the u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4419720" y="2108160"/>
            <a:ext cx="4267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definable Ticket Types will be display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 ticket type to help categorize the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egories could be equipment models, types of interaction with the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4572000" y="2182680"/>
            <a:ext cx="4191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of definable problem types will be made avail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types are related to the ticke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types can be diver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oicing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pment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free form text can be added to the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r can name the ticket as it appears on the ticket listing p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4419720" y="2108160"/>
            <a:ext cx="4267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6:47:01Z</dcterms:created>
  <dc:creator>Scott Auge</dc:creator>
  <dc:description/>
  <dc:language>en-US</dc:language>
  <cp:lastModifiedBy>Scott Auge</cp:lastModifiedBy>
  <dcterms:modified xsi:type="dcterms:W3CDTF">2003-03-09T07:25:22Z</dcterms:modified>
  <cp:revision>3</cp:revision>
  <dc:subject/>
  <dc:title>Service Express: From the company’s prospective</dc:title>
</cp:coreProperties>
</file>